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95C-DEB6-400C-A6E9-F4616702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AD3-4368-4649-B0A7-D399E134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D44-0A9F-4E2B-81A5-B40C3F6E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5BE-9992-4418-80FD-3E908F22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75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547-669B-47E3-8222-48C7DC16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748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9560" y="11174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40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748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9560" y="2982240"/>
            <a:ext cx="264924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DC3-4D1B-43D2-910B-27F61D87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AFA-0AEB-407E-AFE2-4FE7E207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220-5366-4F56-8BF5-8C11BFA3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455760"/>
            <a:ext cx="822780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FA1-373F-4184-A1AD-FFF1D7F5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40B-C42D-44B6-875B-1D92140D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29822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ADA-6420-4EFB-AB18-88D1EFCF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17440"/>
            <a:ext cx="401508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2982240"/>
            <a:ext cx="8227800" cy="170280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indent="0">
              <a:lnSpc>
                <a:spcPct val="130000"/>
              </a:lnSpc>
              <a:spcAft>
                <a:spcPts val="75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816-B543-48EB-8A2E-D126B17A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4735440"/>
            <a:ext cx="296856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4735440"/>
            <a:ext cx="2025720" cy="238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8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BBA3F22-22EE-4AD2-AEDC-71D414F81588}" type="slidenum">
              <a:rPr b="0" lang="zh-CN" sz="8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455760"/>
            <a:ext cx="8227800" cy="52992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400" y="1117440"/>
            <a:ext cx="8227800" cy="3570480"/>
          </a:xfrm>
          <a:prstGeom prst="rect">
            <a:avLst/>
          </a:prstGeom>
          <a:noFill/>
          <a:ln w="0">
            <a:noFill/>
          </a:ln>
        </p:spPr>
        <p:txBody>
          <a:bodyPr lIns="67680" rIns="67680" tIns="35280" bIns="35280" anchor="t">
            <a:normAutofit/>
          </a:bodyPr>
          <a:p>
            <a:pPr marL="1713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1" marL="5144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2" marL="8571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Wingdings" charset="2"/>
              <a:buChar char="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75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9360" y="3648240"/>
            <a:ext cx="9162720" cy="419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8"/>
          <p:cNvSpPr/>
          <p:nvPr/>
        </p:nvSpPr>
        <p:spPr>
          <a:xfrm>
            <a:off x="1657440" y="3164040"/>
            <a:ext cx="638640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块二  高压开关电器的运行与维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识电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1066680"/>
                <a:tab algn="l" pos="15192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                 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</a:t>
            </a: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讲</a:t>
            </a: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：梁卫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-(width-0)*(1-$)^6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-(width-0)*(1-$)^6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  <p:to>
                                        <p:strVal val=""/>
                                      </p:to>
                                    </p:anim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0"/>
          <p:cNvSpPr/>
          <p:nvPr/>
        </p:nvSpPr>
        <p:spPr>
          <a:xfrm>
            <a:off x="3804840" y="95400"/>
            <a:ext cx="105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弧的熄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774720" y="727200"/>
            <a:ext cx="796752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去游离的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）复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带有异性电荷的质点相遇而结合成中性质点的现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带电质点浓度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电弧温度↓ 、隙电场强度↓、复合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）扩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中的带电质点向周围介质移动的现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10"/>
          <p:cNvSpPr/>
          <p:nvPr/>
        </p:nvSpPr>
        <p:spPr>
          <a:xfrm>
            <a:off x="3804840" y="95400"/>
            <a:ext cx="105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弧的熄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714240" y="727200"/>
            <a:ext cx="80280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交流电弧的熄灭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4432320" y="1104840"/>
            <a:ext cx="4309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1f6dd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电压和电流随时间不断变化，每半个周期，电流过零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1f6dd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在自然过零时将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自动熄灭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但下半周期随着电压的升高，电弧会重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1f6dd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若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电流过零时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，电弧不再重燃，电弧就此熄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209520" y="1371600"/>
            <a:ext cx="4010040" cy="1879560"/>
          </a:xfrm>
          <a:prstGeom prst="rect">
            <a:avLst/>
          </a:prstGeom>
          <a:ln w="0">
            <a:noFill/>
          </a:ln>
        </p:spPr>
      </p:pic>
      <p:sp>
        <p:nvSpPr>
          <p:cNvPr id="168" name="矩形 7"/>
          <p:cNvSpPr/>
          <p:nvPr/>
        </p:nvSpPr>
        <p:spPr>
          <a:xfrm>
            <a:off x="1104840" y="3875040"/>
            <a:ext cx="763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1f6dd1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开关电器灭弧装置就是利用这个有利条件在电流过零时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强迫冷却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或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拉长电弧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，使去游离大于游离作用。将电弧迅速熄灭，切断电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10"/>
          <p:cNvSpPr/>
          <p:nvPr/>
        </p:nvSpPr>
        <p:spPr>
          <a:xfrm>
            <a:off x="3804840" y="95400"/>
            <a:ext cx="105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弧的熄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内容占位符 2"/>
          <p:cNvSpPr/>
          <p:nvPr/>
        </p:nvSpPr>
        <p:spPr>
          <a:xfrm>
            <a:off x="714240" y="727200"/>
            <a:ext cx="80280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3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直流电弧的熄灭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3065400" y="1100160"/>
            <a:ext cx="4118040" cy="2028960"/>
            <a:chOff x="3065400" y="1100160"/>
            <a:chExt cx="4118040" cy="2028960"/>
          </a:xfrm>
        </p:grpSpPr>
        <p:sp>
          <p:nvSpPr>
            <p:cNvPr id="174" name="AutoShape 5"/>
            <p:cNvSpPr/>
            <p:nvPr/>
          </p:nvSpPr>
          <p:spPr>
            <a:xfrm>
              <a:off x="3065400" y="1100160"/>
              <a:ext cx="4118040" cy="20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3686400" y="1325880"/>
              <a:ext cx="720" cy="141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>
              <a:off x="3676680" y="2738520"/>
              <a:ext cx="2469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3677760" y="1570680"/>
              <a:ext cx="1768320" cy="728640"/>
            </a:xfrm>
            <a:custGeom>
              <a:avLst/>
              <a:gdLst/>
              <a:ahLst/>
              <a:rect l="l" t="t" r="r" b="b"/>
              <a:pathLst>
                <a:path w="2010" h="1365">
                  <a:moveTo>
                    <a:pt x="0" y="0"/>
                  </a:moveTo>
                  <a:cubicBezTo>
                    <a:pt x="230" y="314"/>
                    <a:pt x="461" y="628"/>
                    <a:pt x="796" y="855"/>
                  </a:cubicBezTo>
                  <a:cubicBezTo>
                    <a:pt x="1131" y="1082"/>
                    <a:pt x="1570" y="1223"/>
                    <a:pt x="2010" y="13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3677760" y="1570680"/>
              <a:ext cx="1624320" cy="512280"/>
            </a:xfrm>
            <a:custGeom>
              <a:avLst/>
              <a:gdLst/>
              <a:ahLst/>
              <a:rect l="l" t="t" r="r" b="b"/>
              <a:pathLst>
                <a:path w="1846" h="960">
                  <a:moveTo>
                    <a:pt x="0" y="0"/>
                  </a:moveTo>
                  <a:cubicBezTo>
                    <a:pt x="409" y="272"/>
                    <a:pt x="818" y="545"/>
                    <a:pt x="1126" y="705"/>
                  </a:cubicBezTo>
                  <a:cubicBezTo>
                    <a:pt x="1434" y="865"/>
                    <a:pt x="1640" y="912"/>
                    <a:pt x="1846" y="9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3677760" y="1947240"/>
              <a:ext cx="1729800" cy="368280"/>
            </a:xfrm>
            <a:custGeom>
              <a:avLst/>
              <a:gdLst/>
              <a:ahLst/>
              <a:rect l="l" t="t" r="r" b="b"/>
              <a:pathLst>
                <a:path w="1966" h="690">
                  <a:moveTo>
                    <a:pt x="1966" y="690"/>
                  </a:moveTo>
                  <a:cubicBezTo>
                    <a:pt x="1560" y="650"/>
                    <a:pt x="1154" y="610"/>
                    <a:pt x="826" y="495"/>
                  </a:cubicBezTo>
                  <a:cubicBezTo>
                    <a:pt x="498" y="380"/>
                    <a:pt x="249" y="19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1"/>
            <p:cNvSpPr/>
            <p:nvPr/>
          </p:nvSpPr>
          <p:spPr>
            <a:xfrm>
              <a:off x="5880960" y="2693520"/>
              <a:ext cx="39564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3373200" y="1244160"/>
              <a:ext cx="39564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3387240" y="1452240"/>
              <a:ext cx="395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4"/>
            <p:cNvSpPr/>
            <p:nvPr/>
          </p:nvSpPr>
          <p:spPr>
            <a:xfrm>
              <a:off x="4516200" y="1627920"/>
              <a:ext cx="3960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4291920" y="1794960"/>
              <a:ext cx="395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6"/>
            <p:cNvSpPr/>
            <p:nvPr/>
          </p:nvSpPr>
          <p:spPr>
            <a:xfrm>
              <a:off x="3877560" y="1794960"/>
              <a:ext cx="395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7"/>
            <p:cNvSpPr/>
            <p:nvPr/>
          </p:nvSpPr>
          <p:spPr>
            <a:xfrm>
              <a:off x="3411720" y="2613600"/>
              <a:ext cx="3956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5300280" y="2108880"/>
              <a:ext cx="396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矩形 4"/>
          <p:cNvSpPr/>
          <p:nvPr/>
        </p:nvSpPr>
        <p:spPr>
          <a:xfrm>
            <a:off x="1055520" y="3135240"/>
            <a:ext cx="763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1f6dd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曲线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是在电流变化很慢，曲线上每一点的游离与去游离都达到平衡，电弧处于稳定燃烧的状态，故称为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静态特性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f6dd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曲线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为电流很快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点增加的曲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f6dd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曲线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为电流很快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点减小的曲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0"/>
          <p:cNvSpPr/>
          <p:nvPr/>
        </p:nvSpPr>
        <p:spPr>
          <a:xfrm>
            <a:off x="3492360" y="95400"/>
            <a:ext cx="2948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熄灭电弧的基本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774720" y="723960"/>
            <a:ext cx="645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熄灭交流电弧的基本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采用灭弧能力强的灭弧介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利用气体或油吹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采用特殊的金属材料作灭弧介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采用多断口灭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提高触头的分离速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10"/>
          <p:cNvSpPr/>
          <p:nvPr/>
        </p:nvSpPr>
        <p:spPr>
          <a:xfrm>
            <a:off x="3492360" y="95400"/>
            <a:ext cx="2948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熄灭电弧的基本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774720" y="774720"/>
            <a:ext cx="746604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熄灭直流电弧的基本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增大回路电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将长电弧分割为多个短电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增大电弧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使电弧与耐弧度绝缘材料紧密接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5"/>
          <p:cNvSpPr/>
          <p:nvPr/>
        </p:nvSpPr>
        <p:spPr>
          <a:xfrm>
            <a:off x="-11160" y="3240"/>
            <a:ext cx="9148680" cy="2014560"/>
          </a:xfrm>
          <a:custGeom>
            <a:avLst/>
            <a:gdLst/>
            <a:ahLst/>
            <a:rect l="l" t="t" r="r" b="b"/>
            <a:pathLst>
              <a:path w="1259" h="291">
                <a:moveTo>
                  <a:pt x="0" y="0"/>
                </a:moveTo>
                <a:cubicBezTo>
                  <a:pt x="28" y="129"/>
                  <a:pt x="28" y="129"/>
                  <a:pt x="28" y="129"/>
                </a:cubicBezTo>
                <a:cubicBezTo>
                  <a:pt x="28" y="129"/>
                  <a:pt x="42" y="172"/>
                  <a:pt x="98" y="183"/>
                </a:cubicBezTo>
                <a:cubicBezTo>
                  <a:pt x="570" y="278"/>
                  <a:pt x="570" y="278"/>
                  <a:pt x="570" y="278"/>
                </a:cubicBezTo>
                <a:cubicBezTo>
                  <a:pt x="570" y="278"/>
                  <a:pt x="623" y="291"/>
                  <a:pt x="685" y="278"/>
                </a:cubicBezTo>
                <a:cubicBezTo>
                  <a:pt x="1018" y="211"/>
                  <a:pt x="1018" y="211"/>
                  <a:pt x="1018" y="211"/>
                </a:cubicBezTo>
                <a:cubicBezTo>
                  <a:pt x="1161" y="182"/>
                  <a:pt x="1161" y="182"/>
                  <a:pt x="1161" y="182"/>
                </a:cubicBezTo>
                <a:cubicBezTo>
                  <a:pt x="1161" y="182"/>
                  <a:pt x="1227" y="167"/>
                  <a:pt x="1236" y="119"/>
                </a:cubicBezTo>
                <a:cubicBezTo>
                  <a:pt x="1259" y="0"/>
                  <a:pt x="1259" y="0"/>
                  <a:pt x="12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1f6d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6" descr=""/>
          <p:cNvPicPr/>
          <p:nvPr/>
        </p:nvPicPr>
        <p:blipFill>
          <a:blip r:embed="rId1"/>
          <a:srcRect l="0" t="0" r="0" b="25548"/>
          <a:stretch/>
        </p:blipFill>
        <p:spPr>
          <a:xfrm>
            <a:off x="3724200" y="1173240"/>
            <a:ext cx="1692360" cy="1601640"/>
          </a:xfrm>
          <a:prstGeom prst="rect">
            <a:avLst/>
          </a:prstGeom>
          <a:ln w="0">
            <a:noFill/>
          </a:ln>
        </p:spPr>
      </p:pic>
      <p:sp>
        <p:nvSpPr>
          <p:cNvPr id="199" name="矩形 14"/>
          <p:cNvSpPr/>
          <p:nvPr/>
        </p:nvSpPr>
        <p:spPr>
          <a:xfrm>
            <a:off x="-9360" y="3432240"/>
            <a:ext cx="9162720" cy="635040"/>
          </a:xfrm>
          <a:prstGeom prst="rect">
            <a:avLst/>
          </a:prstGeom>
          <a:solidFill>
            <a:srgbClr val="2169d3"/>
          </a:solidFill>
          <a:ln w="12600">
            <a:solidFill>
              <a:srgbClr val="2169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2"/>
          <p:cNvSpPr/>
          <p:nvPr/>
        </p:nvSpPr>
        <p:spPr>
          <a:xfrm>
            <a:off x="2705040" y="3489480"/>
            <a:ext cx="42195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360"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7"/>
          <p:cNvSpPr/>
          <p:nvPr/>
        </p:nvSpPr>
        <p:spPr>
          <a:xfrm>
            <a:off x="2645280" y="325440"/>
            <a:ext cx="4112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州电力职业技术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Zhengzhou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lectric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P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wer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T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echnology 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olleg</a:t>
            </a: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MH_Other_2"/>
          <p:cNvSpPr/>
          <p:nvPr/>
        </p:nvSpPr>
        <p:spPr>
          <a:xfrm>
            <a:off x="2511360" y="3102120"/>
            <a:ext cx="1936800" cy="46332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SubTitle_2"/>
          <p:cNvSpPr/>
          <p:nvPr/>
        </p:nvSpPr>
        <p:spPr>
          <a:xfrm>
            <a:off x="4448160" y="2670120"/>
            <a:ext cx="3560760" cy="51264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电弧的熄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1"/>
          <p:cNvSpPr/>
          <p:nvPr/>
        </p:nvSpPr>
        <p:spPr>
          <a:xfrm flipV="1">
            <a:off x="2633760" y="2246040"/>
            <a:ext cx="1828800" cy="2062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Other_2"/>
          <p:cNvSpPr/>
          <p:nvPr/>
        </p:nvSpPr>
        <p:spPr>
          <a:xfrm>
            <a:off x="2608200" y="2765520"/>
            <a:ext cx="1814400" cy="20628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SubTitle_1"/>
          <p:cNvSpPr/>
          <p:nvPr/>
        </p:nvSpPr>
        <p:spPr>
          <a:xfrm>
            <a:off x="4448160" y="199080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电弧的产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5"/>
          <p:cNvSpPr/>
          <p:nvPr/>
        </p:nvSpPr>
        <p:spPr>
          <a:xfrm>
            <a:off x="774720" y="1614600"/>
            <a:ext cx="1954080" cy="1955520"/>
          </a:xfrm>
          <a:prstGeom prst="ellipse">
            <a:avLst/>
          </a:prstGeom>
          <a:solidFill>
            <a:srgbClr val="bfd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Title_1"/>
          <p:cNvSpPr/>
          <p:nvPr/>
        </p:nvSpPr>
        <p:spPr>
          <a:xfrm>
            <a:off x="992160" y="1832040"/>
            <a:ext cx="1519200" cy="1519200"/>
          </a:xfrm>
          <a:prstGeom prst="ellipse">
            <a:avLst/>
          </a:prstGeom>
          <a:solidFill>
            <a:srgbClr val="1f6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4"/>
          <p:cNvSpPr/>
          <p:nvPr/>
        </p:nvSpPr>
        <p:spPr>
          <a:xfrm>
            <a:off x="3932280" y="44280"/>
            <a:ext cx="869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认识电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SubTitle_3"/>
          <p:cNvSpPr/>
          <p:nvPr/>
        </p:nvSpPr>
        <p:spPr>
          <a:xfrm>
            <a:off x="4487760" y="332892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熄灭电弧的基本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SubTitle_1"/>
          <p:cNvSpPr/>
          <p:nvPr/>
        </p:nvSpPr>
        <p:spPr>
          <a:xfrm>
            <a:off x="4487760" y="1320840"/>
            <a:ext cx="3560760" cy="511200"/>
          </a:xfrm>
          <a:prstGeom prst="roundRect">
            <a:avLst>
              <a:gd name="adj" fmla="val 500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1f6dd1"/>
                </a:solidFill>
                <a:latin typeface="Arial"/>
              </a:rPr>
              <a:t>电弧的基本概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1"/>
          <p:cNvSpPr/>
          <p:nvPr/>
        </p:nvSpPr>
        <p:spPr>
          <a:xfrm flipV="1">
            <a:off x="2633760" y="1560600"/>
            <a:ext cx="1814400" cy="606240"/>
          </a:xfrm>
          <a:prstGeom prst="line">
            <a:avLst/>
          </a:prstGeom>
          <a:ln cap="rnd" w="38160">
            <a:solidFill>
              <a:srgbClr val="bfd5f5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6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6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5"/>
          <p:cNvSpPr/>
          <p:nvPr/>
        </p:nvSpPr>
        <p:spPr>
          <a:xfrm>
            <a:off x="3929400" y="95400"/>
            <a:ext cx="141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弧的基本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"/>
          <p:cNvSpPr/>
          <p:nvPr/>
        </p:nvSpPr>
        <p:spPr>
          <a:xfrm>
            <a:off x="3399120" y="744480"/>
            <a:ext cx="273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169d3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         </a:t>
            </a: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电弧是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开关电器操作</a:t>
            </a: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过程中经常发生的一种物理现象；是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气体</a:t>
            </a: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导电现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云形标注 7"/>
          <p:cNvSpPr/>
          <p:nvPr/>
        </p:nvSpPr>
        <p:spPr>
          <a:xfrm>
            <a:off x="6019920" y="2411280"/>
            <a:ext cx="2146320" cy="1114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开关电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8" descr=""/>
          <p:cNvPicPr/>
          <p:nvPr/>
        </p:nvPicPr>
        <p:blipFill>
          <a:blip r:embed="rId2"/>
          <a:stretch/>
        </p:blipFill>
        <p:spPr>
          <a:xfrm>
            <a:off x="1430280" y="1825560"/>
            <a:ext cx="30574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05" name="矩形 6"/>
          <p:cNvSpPr/>
          <p:nvPr/>
        </p:nvSpPr>
        <p:spPr>
          <a:xfrm>
            <a:off x="682560" y="662040"/>
            <a:ext cx="7742160" cy="42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169d3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开关电器的概念：直接用于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正常投切</a:t>
            </a: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故障切除</a:t>
            </a: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电路的电气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一次设备</a:t>
            </a: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001"/>
              </a:spcBef>
              <a:buClr>
                <a:srgbClr val="2169d3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分类：</a:t>
            </a:r>
            <a:r>
              <a:rPr b="0" lang="en-US" sz="1800" spc="-1" strike="noStrike">
                <a:solidFill>
                  <a:srgbClr val="2169d3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按电压等级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高压开关电器、低压开关电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169d3"/>
                </a:solidFill>
                <a:latin typeface="微软雅黑"/>
              </a:rPr>
              <a:t>                 </a:t>
            </a:r>
            <a:r>
              <a:rPr b="0" lang="en-US" sz="1800" spc="-1" strike="noStrike">
                <a:solidFill>
                  <a:srgbClr val="2169d3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按安装地点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户内式、户外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169d3"/>
                </a:solidFill>
                <a:latin typeface="微软雅黑"/>
              </a:rPr>
              <a:t>                 </a:t>
            </a:r>
            <a:r>
              <a:rPr b="0" lang="en-US" sz="1800" spc="-1" strike="noStrike">
                <a:solidFill>
                  <a:srgbClr val="2169d3"/>
                </a:solidFill>
                <a:latin typeface="微软雅黑"/>
              </a:rPr>
              <a:t>3.</a:t>
            </a:r>
            <a:r>
              <a:rPr b="0" lang="zh-CN" sz="1800" spc="-1" strike="noStrike">
                <a:solidFill>
                  <a:srgbClr val="2169d3"/>
                </a:solidFill>
                <a:latin typeface="微软雅黑"/>
              </a:rPr>
              <a:t>按功能分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断路器、隔离开关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熔断器、负荷开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3" descr=""/>
          <p:cNvPicPr/>
          <p:nvPr/>
        </p:nvPicPr>
        <p:blipFill>
          <a:blip r:embed="rId2"/>
          <a:stretch/>
        </p:blipFill>
        <p:spPr>
          <a:xfrm>
            <a:off x="4983120" y="1382760"/>
            <a:ext cx="2193840" cy="13604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" descr=""/>
          <p:cNvPicPr/>
          <p:nvPr/>
        </p:nvPicPr>
        <p:blipFill>
          <a:blip r:embed="rId3"/>
          <a:stretch/>
        </p:blipFill>
        <p:spPr>
          <a:xfrm>
            <a:off x="6883560" y="1600200"/>
            <a:ext cx="1830240" cy="10605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8" descr=""/>
          <p:cNvPicPr/>
          <p:nvPr/>
        </p:nvPicPr>
        <p:blipFill>
          <a:blip r:embed="rId4"/>
          <a:stretch/>
        </p:blipFill>
        <p:spPr>
          <a:xfrm>
            <a:off x="5192640" y="3170160"/>
            <a:ext cx="1557360" cy="14241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0" descr=""/>
          <p:cNvPicPr/>
          <p:nvPr/>
        </p:nvPicPr>
        <p:blipFill>
          <a:blip r:embed="rId5"/>
          <a:stretch/>
        </p:blipFill>
        <p:spPr>
          <a:xfrm>
            <a:off x="6923160" y="3166920"/>
            <a:ext cx="1749240" cy="142416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7"/>
          <p:cNvSpPr/>
          <p:nvPr/>
        </p:nvSpPr>
        <p:spPr>
          <a:xfrm>
            <a:off x="5827680" y="266076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断路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1"/>
          <p:cNvSpPr/>
          <p:nvPr/>
        </p:nvSpPr>
        <p:spPr>
          <a:xfrm>
            <a:off x="7291440" y="265104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隔离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2"/>
          <p:cNvSpPr/>
          <p:nvPr/>
        </p:nvSpPr>
        <p:spPr>
          <a:xfrm>
            <a:off x="7369200" y="4599000"/>
            <a:ext cx="13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负荷开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3"/>
          <p:cNvSpPr/>
          <p:nvPr/>
        </p:nvSpPr>
        <p:spPr>
          <a:xfrm>
            <a:off x="5516640" y="45943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熔断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5"/>
          <p:cNvSpPr/>
          <p:nvPr/>
        </p:nvSpPr>
        <p:spPr>
          <a:xfrm>
            <a:off x="3929400" y="95400"/>
            <a:ext cx="141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弧的基本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4"/>
          <p:cNvSpPr/>
          <p:nvPr/>
        </p:nvSpPr>
        <p:spPr>
          <a:xfrm flipV="1" rot="10800000">
            <a:off x="838080" y="698400"/>
            <a:ext cx="55231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电弧的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开关电器在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开断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路时，触头间产生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耀眼白光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温度很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是一种自持放电现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6dd1"/>
              </a:buClr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是一束游离的气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9"/>
          <p:cNvSpPr/>
          <p:nvPr/>
        </p:nvSpPr>
        <p:spPr>
          <a:xfrm>
            <a:off x="3929400" y="95400"/>
            <a:ext cx="141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弧的基本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4753080" y="1768320"/>
            <a:ext cx="321444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4"/>
          <p:cNvSpPr/>
          <p:nvPr/>
        </p:nvSpPr>
        <p:spPr>
          <a:xfrm flipV="1" rot="10800000">
            <a:off x="950760" y="774000"/>
            <a:ext cx="76168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1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电弧产生的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6dd1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源电压大于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10~2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6dd1"/>
              </a:buClr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流大于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</a:rPr>
              <a:t>80~100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0"/>
          <p:cNvSpPr/>
          <p:nvPr/>
        </p:nvSpPr>
        <p:spPr>
          <a:xfrm>
            <a:off x="4045680" y="77760"/>
            <a:ext cx="105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弧的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1252440" y="2106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2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电弧产生的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863640" y="267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热电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863640" y="33098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强电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右大括号 8"/>
          <p:cNvSpPr/>
          <p:nvPr/>
        </p:nvSpPr>
        <p:spPr>
          <a:xfrm>
            <a:off x="2016000" y="2808360"/>
            <a:ext cx="287640" cy="865080"/>
          </a:xfrm>
          <a:custGeom>
            <a:avLst/>
            <a:gdLst>
              <a:gd name="textAreaLeft" fmla="*/ 0 w 287640"/>
              <a:gd name="textAreaRight" fmla="*/ 103680 w 287640"/>
              <a:gd name="textAreaTop" fmla="*/ 7200 h 865080"/>
              <a:gd name="textAreaBottom" fmla="*/ 85788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8"/>
                  <a:pt x="10800" y="576"/>
                </a:cubicBezTo>
                <a:lnTo>
                  <a:pt x="10800" y="10224"/>
                </a:lnTo>
                <a:cubicBezTo>
                  <a:pt x="10800" y="10512"/>
                  <a:pt x="16200" y="10800"/>
                  <a:pt x="21600" y="10800"/>
                </a:cubicBezTo>
                <a:cubicBezTo>
                  <a:pt x="16200" y="10800"/>
                  <a:pt x="10800" y="11088"/>
                  <a:pt x="10800" y="11376"/>
                </a:cubicBezTo>
                <a:lnTo>
                  <a:pt x="10800" y="21024"/>
                </a:lnTo>
                <a:cubicBezTo>
                  <a:pt x="10800" y="2131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09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右箭头 10"/>
          <p:cNvSpPr/>
          <p:nvPr/>
        </p:nvSpPr>
        <p:spPr>
          <a:xfrm>
            <a:off x="2374920" y="3152880"/>
            <a:ext cx="720720" cy="1746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609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2266920" y="267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加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3377520" y="2825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碰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游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右箭头 13"/>
          <p:cNvSpPr/>
          <p:nvPr/>
        </p:nvSpPr>
        <p:spPr>
          <a:xfrm>
            <a:off x="4006800" y="3135240"/>
            <a:ext cx="720720" cy="1746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609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4940280" y="2994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温度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6551640" y="3009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热游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右箭头 16"/>
          <p:cNvSpPr/>
          <p:nvPr/>
        </p:nvSpPr>
        <p:spPr>
          <a:xfrm>
            <a:off x="5688000" y="3135240"/>
            <a:ext cx="720720" cy="1746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609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右箭头 17"/>
          <p:cNvSpPr/>
          <p:nvPr/>
        </p:nvSpPr>
        <p:spPr>
          <a:xfrm>
            <a:off x="7488360" y="3152880"/>
            <a:ext cx="720720" cy="1746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609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8"/>
          <p:cNvSpPr/>
          <p:nvPr/>
        </p:nvSpPr>
        <p:spPr>
          <a:xfrm>
            <a:off x="8392320" y="3009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电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2819520" y="3824280"/>
            <a:ext cx="3095640" cy="6285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2941560" y="4383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触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5124600" y="43513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触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4067280" y="44146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电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8"/>
          <p:cNvSpPr/>
          <p:nvPr/>
        </p:nvSpPr>
        <p:spPr>
          <a:xfrm flipV="1" rot="10800000">
            <a:off x="774720" y="869040"/>
            <a:ext cx="761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3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电弧的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电弧由三部分组成：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阴极区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、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阳极区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弧柱区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0"/>
          <p:cNvSpPr/>
          <p:nvPr/>
        </p:nvSpPr>
        <p:spPr>
          <a:xfrm>
            <a:off x="4045680" y="77760"/>
            <a:ext cx="105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弧的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2346480" y="1974960"/>
            <a:ext cx="4209840" cy="1147680"/>
          </a:xfrm>
          <a:prstGeom prst="rect">
            <a:avLst/>
          </a:prstGeom>
          <a:ln w="0">
            <a:noFill/>
          </a:ln>
        </p:spPr>
      </p:pic>
      <p:sp>
        <p:nvSpPr>
          <p:cNvPr id="146" name="矩形 3"/>
          <p:cNvSpPr/>
          <p:nvPr/>
        </p:nvSpPr>
        <p:spPr>
          <a:xfrm>
            <a:off x="1360440" y="30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1f6dd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电流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可继续通过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电弧流动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1f6dd1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只有当电弧熄灭，触头间隙成为绝缘介质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电路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才算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断开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4"/>
          <p:cNvSpPr/>
          <p:nvPr/>
        </p:nvSpPr>
        <p:spPr>
          <a:xfrm flipV="1" rot="10800000">
            <a:off x="653760" y="650880"/>
            <a:ext cx="7615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4.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电弧的危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电弧的存在延长了开关电器开断故障电路的时间，加重了电力系统短路故障的危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电弧产生的高温，将使触头表面熔化和蒸化，烧坏绝缘材料。对充油电气设备还可能引起着火、爆炸等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）由于电弧在电动力、热力作用下能移动，很容易造成飞弧短路和伤人，或引起事故的扩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0"/>
          <p:cNvSpPr/>
          <p:nvPr/>
        </p:nvSpPr>
        <p:spPr>
          <a:xfrm>
            <a:off x="3804840" y="95400"/>
            <a:ext cx="105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弧的产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直线连接符 12"/>
          <p:cNvSpPr/>
          <p:nvPr/>
        </p:nvSpPr>
        <p:spPr>
          <a:xfrm>
            <a:off x="774720" y="588960"/>
            <a:ext cx="8109000" cy="0"/>
          </a:xfrm>
          <a:prstGeom prst="line">
            <a:avLst/>
          </a:prstGeom>
          <a:ln w="22320">
            <a:solidFill>
              <a:srgbClr val="1f6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36" descr=""/>
          <p:cNvPicPr/>
          <p:nvPr/>
        </p:nvPicPr>
        <p:blipFill>
          <a:blip r:embed="rId1"/>
          <a:srcRect l="0" t="0" r="0" b="25535"/>
          <a:stretch/>
        </p:blipFill>
        <p:spPr>
          <a:xfrm>
            <a:off x="209520" y="136440"/>
            <a:ext cx="565200" cy="52560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10"/>
          <p:cNvSpPr/>
          <p:nvPr/>
        </p:nvSpPr>
        <p:spPr>
          <a:xfrm>
            <a:off x="3804840" y="95400"/>
            <a:ext cx="105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1f6dd1"/>
                </a:solidFill>
                <a:latin typeface="微软雅黑"/>
              </a:rPr>
              <a:t>电弧的熄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内容占位符 2"/>
          <p:cNvSpPr/>
          <p:nvPr/>
        </p:nvSpPr>
        <p:spPr>
          <a:xfrm>
            <a:off x="774720" y="662040"/>
            <a:ext cx="792648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normAutofit/>
          </a:bodyPr>
          <a:p>
            <a:pPr algn="just">
              <a:lnSpc>
                <a:spcPct val="150000"/>
              </a:lnSpc>
              <a:spcAft>
                <a:spcPts val="75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</a:rPr>
              <a:t>去游离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在电弧中，介质因游离而产生大量带电粒子的同时，还会发生带电粒子消失的相反过程，称为去游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游离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&gt;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去游离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1f6dd1"/>
                </a:solidFill>
                <a:latin typeface="宋体"/>
              </a:rPr>
              <a:t>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电弧加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游离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=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去游离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1f6dd1"/>
                </a:solidFill>
                <a:latin typeface="宋体"/>
              </a:rPr>
              <a:t>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电弧稳定燃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51"/>
              </a:spcAft>
              <a:buClr>
                <a:srgbClr val="1f6dd1"/>
              </a:buClr>
              <a:buFont typeface="Arial"/>
              <a:buChar char="●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游离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&lt;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去游离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 </a:t>
            </a:r>
            <a:r>
              <a:rPr b="0" lang="en-US" sz="1800" spc="-1" strike="noStrike">
                <a:solidFill>
                  <a:srgbClr val="1f6dd1"/>
                </a:solidFill>
                <a:latin typeface="宋体"/>
              </a:rPr>
              <a:t></a:t>
            </a:r>
            <a:r>
              <a:rPr b="0" lang="en-US" sz="1800" spc="-1" strike="noStrike">
                <a:solidFill>
                  <a:srgbClr val="1f6dd1"/>
                </a:solidFill>
                <a:latin typeface="微软雅黑"/>
              </a:rPr>
              <a:t> </a:t>
            </a:r>
            <a:r>
              <a:rPr b="0" lang="zh-CN" sz="1800" spc="-1" strike="noStrike">
                <a:solidFill>
                  <a:srgbClr val="1f6dd1"/>
                </a:solidFill>
                <a:latin typeface="微软雅黑"/>
              </a:rPr>
              <a:t>电弧减少以致熄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905040" y="3376440"/>
            <a:ext cx="5994360" cy="733680"/>
            <a:chOff x="905040" y="3376440"/>
            <a:chExt cx="5994360" cy="733680"/>
          </a:xfrm>
        </p:grpSpPr>
        <p:sp>
          <p:nvSpPr>
            <p:cNvPr id="156" name="圆角矩形 4"/>
            <p:cNvSpPr/>
            <p:nvPr/>
          </p:nvSpPr>
          <p:spPr>
            <a:xfrm>
              <a:off x="905040" y="3376440"/>
              <a:ext cx="5994360" cy="733680"/>
            </a:xfrm>
            <a:prstGeom prst="roundRect">
              <a:avLst>
                <a:gd name="adj" fmla="val 16667"/>
              </a:avLst>
            </a:prstGeom>
            <a:solidFill>
              <a:srgbClr val="609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5"/>
            <p:cNvSpPr/>
            <p:nvPr/>
          </p:nvSpPr>
          <p:spPr>
            <a:xfrm>
              <a:off x="931320" y="3550320"/>
              <a:ext cx="59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熄灭电弧的条件：削弱游离作用，加强去游离作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2:08:00Z</dcterms:created>
  <dc:creator>Administrator</dc:creator>
  <dc:description/>
  <dc:language>en-US</dc:language>
  <cp:lastModifiedBy>Administrator</cp:lastModifiedBy>
  <dcterms:modified xsi:type="dcterms:W3CDTF">2021-12-09T08:13:21Z</dcterms:modified>
  <cp:revision>3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A83A48BAB32245D4A6C98478441FAD95</vt:lpwstr>
  </property>
  <property fmtid="{D5CDD505-2E9C-101B-9397-08002B2CF9AE}" pid="3" name="KSOProductBuildVer">
    <vt:lpwstr>2052-11.1.0.10463</vt:lpwstr>
  </property>
</Properties>
</file>