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DF8-5F5A-4DA2-AF2A-692EA0FB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561-5273-4AB8-821D-F15A25CA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9DE-187C-4531-8D3B-1D2D1FE9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90B-1D54-4B23-BBE1-4E2A6ED8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8D9-E31E-4358-99F2-ACE547FE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616-FBAA-4260-9C52-31F94BD2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45F-6362-431A-941F-5AE40628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FBB-FDA5-449C-AADF-BA894E95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A69-EEEC-468D-AD8E-0C23C81C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107-89D2-49C2-B968-D323AC67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919-3B93-41FE-ACB8-6B67E4D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D3F-A96C-4900-A3F0-0FACB89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2805A846-0F97-497A-AE2A-32BAD1EF414E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63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压断路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高压断路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     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：梁卫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8"/>
          <p:cNvSpPr/>
          <p:nvPr/>
        </p:nvSpPr>
        <p:spPr>
          <a:xfrm>
            <a:off x="3908880" y="11592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923760" y="944640"/>
            <a:ext cx="41767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随着无油化进程的发展，油断路器和压缩空气断路器已被性能优良的真空断路器和六氟化硫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1f6dd1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断路器所取代。科学技术的发展有利于电网的安全稳定运行，依据</a:t>
            </a:r>
            <a:r>
              <a:rPr b="0" lang="zh-CN" sz="1800" spc="-1" strike="noStrike">
                <a:solidFill>
                  <a:srgbClr val="16468d"/>
                </a:solidFill>
                <a:latin typeface="微软雅黑"/>
              </a:rPr>
              <a:t>国家电力行业标准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，我们要勇于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创新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，开发专业领域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新技术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新工艺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6" descr=""/>
          <p:cNvPicPr/>
          <p:nvPr/>
        </p:nvPicPr>
        <p:blipFill>
          <a:blip r:embed="rId2"/>
          <a:stretch/>
        </p:blipFill>
        <p:spPr>
          <a:xfrm>
            <a:off x="5400720" y="944640"/>
            <a:ext cx="2554200" cy="3608280"/>
          </a:xfrm>
          <a:prstGeom prst="rect">
            <a:avLst/>
          </a:prstGeom>
          <a:ln w="9360">
            <a:solidFill>
              <a:srgbClr val="1f6dd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3974400" y="13644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9"/>
          <p:cNvGrpSpPr/>
          <p:nvPr/>
        </p:nvGrpSpPr>
        <p:grpSpPr>
          <a:xfrm>
            <a:off x="-1995480" y="662040"/>
            <a:ext cx="4389480" cy="3862440"/>
            <a:chOff x="-1995480" y="662040"/>
            <a:chExt cx="4389480" cy="3862440"/>
          </a:xfrm>
        </p:grpSpPr>
        <p:pic>
          <p:nvPicPr>
            <p:cNvPr id="157" name="Picture 345" descr="shadow_1_m"/>
            <p:cNvPicPr/>
            <p:nvPr/>
          </p:nvPicPr>
          <p:blipFill>
            <a:blip r:embed="rId2"/>
            <a:srcRect l="61416" t="0" r="0" b="0"/>
            <a:stretch/>
          </p:blipFill>
          <p:spPr>
            <a:xfrm>
              <a:off x="823320" y="662040"/>
              <a:ext cx="392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Freeform 5"/>
            <p:cNvSpPr/>
            <p:nvPr/>
          </p:nvSpPr>
          <p:spPr>
            <a:xfrm>
              <a:off x="-1995480" y="1163520"/>
              <a:ext cx="2823840" cy="1141200"/>
            </a:xfrm>
            <a:custGeom>
              <a:avLst/>
              <a:gdLst/>
              <a:ahLst/>
              <a:rect l="l" t="t" r="r" b="b"/>
              <a:pathLst>
                <a:path w="3653298" h="2634276">
                  <a:moveTo>
                    <a:pt x="459" y="2634276"/>
                  </a:moveTo>
                  <a:cubicBezTo>
                    <a:pt x="-1128" y="2367371"/>
                    <a:pt x="2047" y="2095705"/>
                    <a:pt x="460" y="1828800"/>
                  </a:cubicBezTo>
                  <a:lnTo>
                    <a:pt x="3653298" y="0"/>
                  </a:lnTo>
                  <a:lnTo>
                    <a:pt x="3653298" y="796413"/>
                  </a:lnTo>
                  <a:lnTo>
                    <a:pt x="459" y="263427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824760" y="1163520"/>
              <a:ext cx="1569240" cy="346320"/>
            </a:xfrm>
            <a:prstGeom prst="pie">
              <a:avLst/>
            </a:prstGeom>
            <a:solidFill>
              <a:srgbClr val="609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额定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-1367640" y="1678320"/>
              <a:ext cx="2193480" cy="955440"/>
            </a:xfrm>
            <a:custGeom>
              <a:avLst/>
              <a:gdLst/>
              <a:ahLst/>
              <a:rect l="l" t="t" r="r" b="b"/>
              <a:pathLst>
                <a:path w="2839142" h="2219708">
                  <a:moveTo>
                    <a:pt x="2382" y="2219708"/>
                  </a:moveTo>
                  <a:lnTo>
                    <a:pt x="0" y="1419608"/>
                  </a:lnTo>
                  <a:lnTo>
                    <a:pt x="2839142" y="0"/>
                  </a:lnTo>
                  <a:lnTo>
                    <a:pt x="2839142" y="796413"/>
                  </a:lnTo>
                  <a:lnTo>
                    <a:pt x="2382" y="221970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"/>
            <p:cNvSpPr/>
            <p:nvPr/>
          </p:nvSpPr>
          <p:spPr>
            <a:xfrm>
              <a:off x="-744480" y="2199240"/>
              <a:ext cx="1570680" cy="781200"/>
            </a:xfrm>
            <a:custGeom>
              <a:avLst/>
              <a:gdLst/>
              <a:ahLst/>
              <a:rect l="l" t="t" r="r" b="b"/>
              <a:pathLst>
                <a:path w="2034279" h="1814511">
                  <a:moveTo>
                    <a:pt x="2381" y="1814511"/>
                  </a:moveTo>
                  <a:cubicBezTo>
                    <a:pt x="1587" y="1547811"/>
                    <a:pt x="794" y="1281111"/>
                    <a:pt x="0" y="1014411"/>
                  </a:cubicBezTo>
                  <a:lnTo>
                    <a:pt x="2034279" y="0"/>
                  </a:lnTo>
                  <a:lnTo>
                    <a:pt x="2034279" y="796413"/>
                  </a:lnTo>
                  <a:lnTo>
                    <a:pt x="2381" y="1814511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"/>
            <p:cNvSpPr/>
            <p:nvPr/>
          </p:nvSpPr>
          <p:spPr>
            <a:xfrm>
              <a:off x="-116640" y="2729160"/>
              <a:ext cx="939240" cy="602640"/>
            </a:xfrm>
            <a:custGeom>
              <a:avLst/>
              <a:gdLst/>
              <a:ahLst/>
              <a:rect l="l" t="t" r="r" b="b"/>
              <a:pathLst>
                <a:path w="1215129" h="1400968">
                  <a:moveTo>
                    <a:pt x="0" y="1400968"/>
                  </a:moveTo>
                  <a:lnTo>
                    <a:pt x="0" y="596106"/>
                  </a:lnTo>
                  <a:lnTo>
                    <a:pt x="1212748" y="0"/>
                  </a:lnTo>
                  <a:cubicBezTo>
                    <a:pt x="1215129" y="263090"/>
                    <a:pt x="1212748" y="528561"/>
                    <a:pt x="1215129" y="791651"/>
                  </a:cubicBezTo>
                  <a:lnTo>
                    <a:pt x="0" y="140096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17"/>
            <p:cNvSpPr/>
            <p:nvPr/>
          </p:nvSpPr>
          <p:spPr>
            <a:xfrm>
              <a:off x="1750320" y="167832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traight Connector 18"/>
            <p:cNvSpPr/>
            <p:nvPr/>
          </p:nvSpPr>
          <p:spPr>
            <a:xfrm>
              <a:off x="1750320" y="221364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traight Connector 19"/>
            <p:cNvSpPr/>
            <p:nvPr/>
          </p:nvSpPr>
          <p:spPr>
            <a:xfrm>
              <a:off x="1750320" y="272916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Freeform 15"/>
          <p:cNvSpPr/>
          <p:nvPr/>
        </p:nvSpPr>
        <p:spPr>
          <a:xfrm>
            <a:off x="-117360" y="3219480"/>
            <a:ext cx="939600" cy="60336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4"/>
          <p:cNvSpPr/>
          <p:nvPr/>
        </p:nvSpPr>
        <p:spPr>
          <a:xfrm>
            <a:off x="835200" y="32194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835200" y="3755880"/>
            <a:ext cx="1562040" cy="3463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835200" y="1676520"/>
            <a:ext cx="1558800" cy="3474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4"/>
          <p:cNvSpPr/>
          <p:nvPr/>
        </p:nvSpPr>
        <p:spPr>
          <a:xfrm>
            <a:off x="835200" y="2197080"/>
            <a:ext cx="155880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4"/>
          <p:cNvSpPr/>
          <p:nvPr/>
        </p:nvSpPr>
        <p:spPr>
          <a:xfrm>
            <a:off x="828720" y="27226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5"/>
          <p:cNvSpPr/>
          <p:nvPr/>
        </p:nvSpPr>
        <p:spPr>
          <a:xfrm>
            <a:off x="-114480" y="3757680"/>
            <a:ext cx="936720" cy="60948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6"/>
          <p:cNvSpPr/>
          <p:nvPr/>
        </p:nvSpPr>
        <p:spPr>
          <a:xfrm>
            <a:off x="2759040" y="1163520"/>
            <a:ext cx="638496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6096e6"/>
                </a:solidFill>
                <a:latin typeface="微软雅黑"/>
              </a:rPr>
              <a:t>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断路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长时间运行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能承受的正常工作电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6096e6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压等级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k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3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5"/>
          <p:cNvSpPr/>
          <p:nvPr/>
        </p:nvSpPr>
        <p:spPr>
          <a:xfrm>
            <a:off x="3974400" y="13644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19"/>
          <p:cNvGrpSpPr/>
          <p:nvPr/>
        </p:nvGrpSpPr>
        <p:grpSpPr>
          <a:xfrm>
            <a:off x="-1995480" y="662040"/>
            <a:ext cx="4389480" cy="3862440"/>
            <a:chOff x="-1995480" y="662040"/>
            <a:chExt cx="4389480" cy="3862440"/>
          </a:xfrm>
        </p:grpSpPr>
        <p:pic>
          <p:nvPicPr>
            <p:cNvPr id="178" name="Picture 345" descr="shadow_1_m"/>
            <p:cNvPicPr/>
            <p:nvPr/>
          </p:nvPicPr>
          <p:blipFill>
            <a:blip r:embed="rId2"/>
            <a:srcRect l="61416" t="0" r="0" b="0"/>
            <a:stretch/>
          </p:blipFill>
          <p:spPr>
            <a:xfrm>
              <a:off x="823320" y="662040"/>
              <a:ext cx="392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Freeform 5"/>
            <p:cNvSpPr/>
            <p:nvPr/>
          </p:nvSpPr>
          <p:spPr>
            <a:xfrm>
              <a:off x="-1995480" y="1163520"/>
              <a:ext cx="2823840" cy="1141200"/>
            </a:xfrm>
            <a:custGeom>
              <a:avLst/>
              <a:gdLst/>
              <a:ahLst/>
              <a:rect l="l" t="t" r="r" b="b"/>
              <a:pathLst>
                <a:path w="3653298" h="2634276">
                  <a:moveTo>
                    <a:pt x="459" y="2634276"/>
                  </a:moveTo>
                  <a:cubicBezTo>
                    <a:pt x="-1128" y="2367371"/>
                    <a:pt x="2047" y="2095705"/>
                    <a:pt x="460" y="1828800"/>
                  </a:cubicBezTo>
                  <a:lnTo>
                    <a:pt x="3653298" y="0"/>
                  </a:lnTo>
                  <a:lnTo>
                    <a:pt x="3653298" y="796413"/>
                  </a:lnTo>
                  <a:lnTo>
                    <a:pt x="459" y="263427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>
              <a:off x="824760" y="1163520"/>
              <a:ext cx="1569240" cy="346320"/>
            </a:xfrm>
            <a:prstGeom prst="pie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1f6dd1"/>
                  </a:solidFill>
                  <a:latin typeface="微软雅黑"/>
                </a:rPr>
                <a:t>额定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8"/>
            <p:cNvSpPr/>
            <p:nvPr/>
          </p:nvSpPr>
          <p:spPr>
            <a:xfrm>
              <a:off x="-1367640" y="1678320"/>
              <a:ext cx="2193480" cy="955440"/>
            </a:xfrm>
            <a:custGeom>
              <a:avLst/>
              <a:gdLst/>
              <a:ahLst/>
              <a:rect l="l" t="t" r="r" b="b"/>
              <a:pathLst>
                <a:path w="2839142" h="2219708">
                  <a:moveTo>
                    <a:pt x="2382" y="2219708"/>
                  </a:moveTo>
                  <a:lnTo>
                    <a:pt x="0" y="1419608"/>
                  </a:lnTo>
                  <a:lnTo>
                    <a:pt x="2839142" y="0"/>
                  </a:lnTo>
                  <a:lnTo>
                    <a:pt x="2839142" y="796413"/>
                  </a:lnTo>
                  <a:lnTo>
                    <a:pt x="2382" y="221970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"/>
            <p:cNvSpPr/>
            <p:nvPr/>
          </p:nvSpPr>
          <p:spPr>
            <a:xfrm>
              <a:off x="-744480" y="2199240"/>
              <a:ext cx="1570680" cy="781200"/>
            </a:xfrm>
            <a:custGeom>
              <a:avLst/>
              <a:gdLst/>
              <a:ahLst/>
              <a:rect l="l" t="t" r="r" b="b"/>
              <a:pathLst>
                <a:path w="2034279" h="1814511">
                  <a:moveTo>
                    <a:pt x="2381" y="1814511"/>
                  </a:moveTo>
                  <a:cubicBezTo>
                    <a:pt x="1587" y="1547811"/>
                    <a:pt x="794" y="1281111"/>
                    <a:pt x="0" y="1014411"/>
                  </a:cubicBezTo>
                  <a:lnTo>
                    <a:pt x="2034279" y="0"/>
                  </a:lnTo>
                  <a:lnTo>
                    <a:pt x="2034279" y="796413"/>
                  </a:lnTo>
                  <a:lnTo>
                    <a:pt x="2381" y="1814511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-116640" y="2729160"/>
              <a:ext cx="939240" cy="602640"/>
            </a:xfrm>
            <a:custGeom>
              <a:avLst/>
              <a:gdLst/>
              <a:ahLst/>
              <a:rect l="l" t="t" r="r" b="b"/>
              <a:pathLst>
                <a:path w="1215129" h="1400968">
                  <a:moveTo>
                    <a:pt x="0" y="1400968"/>
                  </a:moveTo>
                  <a:lnTo>
                    <a:pt x="0" y="596106"/>
                  </a:lnTo>
                  <a:lnTo>
                    <a:pt x="1212748" y="0"/>
                  </a:lnTo>
                  <a:cubicBezTo>
                    <a:pt x="1215129" y="263090"/>
                    <a:pt x="1212748" y="528561"/>
                    <a:pt x="1215129" y="791651"/>
                  </a:cubicBezTo>
                  <a:lnTo>
                    <a:pt x="0" y="140096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Straight Connector 17"/>
            <p:cNvSpPr/>
            <p:nvPr/>
          </p:nvSpPr>
          <p:spPr>
            <a:xfrm>
              <a:off x="1750320" y="167832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Straight Connector 18"/>
            <p:cNvSpPr/>
            <p:nvPr/>
          </p:nvSpPr>
          <p:spPr>
            <a:xfrm>
              <a:off x="1750320" y="221364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9"/>
            <p:cNvSpPr/>
            <p:nvPr/>
          </p:nvSpPr>
          <p:spPr>
            <a:xfrm>
              <a:off x="1750320" y="272916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Freeform 15"/>
          <p:cNvSpPr/>
          <p:nvPr/>
        </p:nvSpPr>
        <p:spPr>
          <a:xfrm>
            <a:off x="-117360" y="3219480"/>
            <a:ext cx="939600" cy="60336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"/>
          <p:cNvSpPr/>
          <p:nvPr/>
        </p:nvSpPr>
        <p:spPr>
          <a:xfrm>
            <a:off x="835200" y="32194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835200" y="3755880"/>
            <a:ext cx="1562040" cy="3463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"/>
          <p:cNvSpPr/>
          <p:nvPr/>
        </p:nvSpPr>
        <p:spPr>
          <a:xfrm>
            <a:off x="835200" y="1676520"/>
            <a:ext cx="1558800" cy="347400"/>
          </a:xfrm>
          <a:prstGeom prst="pie">
            <a:avLst/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835200" y="2197080"/>
            <a:ext cx="155880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"/>
          <p:cNvSpPr/>
          <p:nvPr/>
        </p:nvSpPr>
        <p:spPr>
          <a:xfrm>
            <a:off x="828720" y="27226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-114480" y="3757680"/>
            <a:ext cx="936720" cy="60948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7"/>
          <p:cNvSpPr/>
          <p:nvPr/>
        </p:nvSpPr>
        <p:spPr>
          <a:xfrm>
            <a:off x="2765520" y="1041480"/>
            <a:ext cx="58356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铭牌上所标明的断路器可以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长期通过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的工作电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6096e6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长期通过额定电流时，断路器各部分的发热温度不会超过允许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5"/>
          <p:cNvSpPr/>
          <p:nvPr/>
        </p:nvSpPr>
        <p:spPr>
          <a:xfrm>
            <a:off x="3974400" y="13644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9"/>
          <p:cNvGrpSpPr/>
          <p:nvPr/>
        </p:nvGrpSpPr>
        <p:grpSpPr>
          <a:xfrm>
            <a:off x="-1995480" y="662040"/>
            <a:ext cx="4389480" cy="3862440"/>
            <a:chOff x="-1995480" y="662040"/>
            <a:chExt cx="4389480" cy="3862440"/>
          </a:xfrm>
        </p:grpSpPr>
        <p:pic>
          <p:nvPicPr>
            <p:cNvPr id="199" name="Picture 345" descr="shadow_1_m"/>
            <p:cNvPicPr/>
            <p:nvPr/>
          </p:nvPicPr>
          <p:blipFill>
            <a:blip r:embed="rId2"/>
            <a:srcRect l="61416" t="0" r="0" b="0"/>
            <a:stretch/>
          </p:blipFill>
          <p:spPr>
            <a:xfrm>
              <a:off x="823320" y="662040"/>
              <a:ext cx="392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5"/>
            <p:cNvSpPr/>
            <p:nvPr/>
          </p:nvSpPr>
          <p:spPr>
            <a:xfrm>
              <a:off x="-1995480" y="1163520"/>
              <a:ext cx="2823840" cy="1141200"/>
            </a:xfrm>
            <a:custGeom>
              <a:avLst/>
              <a:gdLst/>
              <a:ahLst/>
              <a:rect l="l" t="t" r="r" b="b"/>
              <a:pathLst>
                <a:path w="3653298" h="2634276">
                  <a:moveTo>
                    <a:pt x="459" y="2634276"/>
                  </a:moveTo>
                  <a:cubicBezTo>
                    <a:pt x="-1128" y="2367371"/>
                    <a:pt x="2047" y="2095705"/>
                    <a:pt x="460" y="1828800"/>
                  </a:cubicBezTo>
                  <a:lnTo>
                    <a:pt x="3653298" y="0"/>
                  </a:lnTo>
                  <a:lnTo>
                    <a:pt x="3653298" y="796413"/>
                  </a:lnTo>
                  <a:lnTo>
                    <a:pt x="459" y="263427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"/>
            <p:cNvSpPr/>
            <p:nvPr/>
          </p:nvSpPr>
          <p:spPr>
            <a:xfrm>
              <a:off x="824760" y="1163520"/>
              <a:ext cx="1569240" cy="346320"/>
            </a:xfrm>
            <a:prstGeom prst="pie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1f6dd1"/>
                  </a:solidFill>
                  <a:latin typeface="微软雅黑"/>
                </a:rPr>
                <a:t>额定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"/>
            <p:cNvSpPr/>
            <p:nvPr/>
          </p:nvSpPr>
          <p:spPr>
            <a:xfrm>
              <a:off x="-1367640" y="1678320"/>
              <a:ext cx="2193480" cy="955440"/>
            </a:xfrm>
            <a:custGeom>
              <a:avLst/>
              <a:gdLst/>
              <a:ahLst/>
              <a:rect l="l" t="t" r="r" b="b"/>
              <a:pathLst>
                <a:path w="2839142" h="2219708">
                  <a:moveTo>
                    <a:pt x="2382" y="2219708"/>
                  </a:moveTo>
                  <a:lnTo>
                    <a:pt x="0" y="1419608"/>
                  </a:lnTo>
                  <a:lnTo>
                    <a:pt x="2839142" y="0"/>
                  </a:lnTo>
                  <a:lnTo>
                    <a:pt x="2839142" y="796413"/>
                  </a:lnTo>
                  <a:lnTo>
                    <a:pt x="2382" y="221970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"/>
            <p:cNvSpPr/>
            <p:nvPr/>
          </p:nvSpPr>
          <p:spPr>
            <a:xfrm>
              <a:off x="-744480" y="2199240"/>
              <a:ext cx="1570680" cy="781200"/>
            </a:xfrm>
            <a:custGeom>
              <a:avLst/>
              <a:gdLst/>
              <a:ahLst/>
              <a:rect l="l" t="t" r="r" b="b"/>
              <a:pathLst>
                <a:path w="2034279" h="1814511">
                  <a:moveTo>
                    <a:pt x="2381" y="1814511"/>
                  </a:moveTo>
                  <a:cubicBezTo>
                    <a:pt x="1587" y="1547811"/>
                    <a:pt x="794" y="1281111"/>
                    <a:pt x="0" y="1014411"/>
                  </a:cubicBezTo>
                  <a:lnTo>
                    <a:pt x="2034279" y="0"/>
                  </a:lnTo>
                  <a:lnTo>
                    <a:pt x="2034279" y="796413"/>
                  </a:lnTo>
                  <a:lnTo>
                    <a:pt x="2381" y="1814511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-116640" y="2729160"/>
              <a:ext cx="939240" cy="602640"/>
            </a:xfrm>
            <a:custGeom>
              <a:avLst/>
              <a:gdLst/>
              <a:ahLst/>
              <a:rect l="l" t="t" r="r" b="b"/>
              <a:pathLst>
                <a:path w="1215129" h="1400968">
                  <a:moveTo>
                    <a:pt x="0" y="1400968"/>
                  </a:moveTo>
                  <a:lnTo>
                    <a:pt x="0" y="596106"/>
                  </a:lnTo>
                  <a:lnTo>
                    <a:pt x="1212748" y="0"/>
                  </a:lnTo>
                  <a:cubicBezTo>
                    <a:pt x="1215129" y="263090"/>
                    <a:pt x="1212748" y="528561"/>
                    <a:pt x="1215129" y="791651"/>
                  </a:cubicBezTo>
                  <a:lnTo>
                    <a:pt x="0" y="140096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traight Connector 17"/>
            <p:cNvSpPr/>
            <p:nvPr/>
          </p:nvSpPr>
          <p:spPr>
            <a:xfrm>
              <a:off x="1750320" y="167832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Straight Connector 18"/>
            <p:cNvSpPr/>
            <p:nvPr/>
          </p:nvSpPr>
          <p:spPr>
            <a:xfrm>
              <a:off x="1750320" y="221364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Straight Connector 19"/>
            <p:cNvSpPr/>
            <p:nvPr/>
          </p:nvSpPr>
          <p:spPr>
            <a:xfrm>
              <a:off x="1750320" y="272916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Freeform 15"/>
          <p:cNvSpPr/>
          <p:nvPr/>
        </p:nvSpPr>
        <p:spPr>
          <a:xfrm>
            <a:off x="-117360" y="3219480"/>
            <a:ext cx="939600" cy="60336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835200" y="32194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4"/>
          <p:cNvSpPr/>
          <p:nvPr/>
        </p:nvSpPr>
        <p:spPr>
          <a:xfrm>
            <a:off x="835200" y="3755880"/>
            <a:ext cx="1562040" cy="3463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4"/>
          <p:cNvSpPr/>
          <p:nvPr/>
        </p:nvSpPr>
        <p:spPr>
          <a:xfrm>
            <a:off x="835200" y="1676520"/>
            <a:ext cx="1558800" cy="347400"/>
          </a:xfrm>
          <a:prstGeom prst="pie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4"/>
          <p:cNvSpPr/>
          <p:nvPr/>
        </p:nvSpPr>
        <p:spPr>
          <a:xfrm>
            <a:off x="835200" y="2197080"/>
            <a:ext cx="1595160" cy="345960"/>
          </a:xfrm>
          <a:prstGeom prst="pie">
            <a:avLst/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"/>
          <p:cNvSpPr/>
          <p:nvPr/>
        </p:nvSpPr>
        <p:spPr>
          <a:xfrm>
            <a:off x="828720" y="27226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-114480" y="3757680"/>
            <a:ext cx="936720" cy="60948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6"/>
          <p:cNvSpPr/>
          <p:nvPr/>
        </p:nvSpPr>
        <p:spPr>
          <a:xfrm>
            <a:off x="2705040" y="1074600"/>
            <a:ext cx="5835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3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断路器在额定电压下能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可靠开断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的最大短路电流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有效值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6096e6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作用：表征断路器的开断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5"/>
          <p:cNvSpPr/>
          <p:nvPr/>
        </p:nvSpPr>
        <p:spPr>
          <a:xfrm>
            <a:off x="3974400" y="13644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9"/>
          <p:cNvGrpSpPr/>
          <p:nvPr/>
        </p:nvGrpSpPr>
        <p:grpSpPr>
          <a:xfrm>
            <a:off x="-1995480" y="662040"/>
            <a:ext cx="4389480" cy="3862440"/>
            <a:chOff x="-1995480" y="662040"/>
            <a:chExt cx="4389480" cy="3862440"/>
          </a:xfrm>
        </p:grpSpPr>
        <p:pic>
          <p:nvPicPr>
            <p:cNvPr id="220" name="Picture 345" descr="shadow_1_m"/>
            <p:cNvPicPr/>
            <p:nvPr/>
          </p:nvPicPr>
          <p:blipFill>
            <a:blip r:embed="rId2"/>
            <a:srcRect l="61416" t="0" r="0" b="0"/>
            <a:stretch/>
          </p:blipFill>
          <p:spPr>
            <a:xfrm>
              <a:off x="823320" y="662040"/>
              <a:ext cx="392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Freeform 5"/>
            <p:cNvSpPr/>
            <p:nvPr/>
          </p:nvSpPr>
          <p:spPr>
            <a:xfrm>
              <a:off x="-1995480" y="1163520"/>
              <a:ext cx="2823840" cy="1141200"/>
            </a:xfrm>
            <a:custGeom>
              <a:avLst/>
              <a:gdLst/>
              <a:ahLst/>
              <a:rect l="l" t="t" r="r" b="b"/>
              <a:pathLst>
                <a:path w="3653298" h="2634276">
                  <a:moveTo>
                    <a:pt x="459" y="2634276"/>
                  </a:moveTo>
                  <a:cubicBezTo>
                    <a:pt x="-1128" y="2367371"/>
                    <a:pt x="2047" y="2095705"/>
                    <a:pt x="460" y="1828800"/>
                  </a:cubicBezTo>
                  <a:lnTo>
                    <a:pt x="3653298" y="0"/>
                  </a:lnTo>
                  <a:lnTo>
                    <a:pt x="3653298" y="796413"/>
                  </a:lnTo>
                  <a:lnTo>
                    <a:pt x="459" y="263427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824760" y="1163520"/>
              <a:ext cx="1569240" cy="346320"/>
            </a:xfrm>
            <a:prstGeom prst="pie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1f6dd1"/>
                  </a:solidFill>
                  <a:latin typeface="微软雅黑"/>
                </a:rPr>
                <a:t>额定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-1367640" y="1678320"/>
              <a:ext cx="2193480" cy="955440"/>
            </a:xfrm>
            <a:custGeom>
              <a:avLst/>
              <a:gdLst/>
              <a:ahLst/>
              <a:rect l="l" t="t" r="r" b="b"/>
              <a:pathLst>
                <a:path w="2839142" h="2219708">
                  <a:moveTo>
                    <a:pt x="2382" y="2219708"/>
                  </a:moveTo>
                  <a:lnTo>
                    <a:pt x="0" y="1419608"/>
                  </a:lnTo>
                  <a:lnTo>
                    <a:pt x="2839142" y="0"/>
                  </a:lnTo>
                  <a:lnTo>
                    <a:pt x="2839142" y="796413"/>
                  </a:lnTo>
                  <a:lnTo>
                    <a:pt x="2382" y="221970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"/>
            <p:cNvSpPr/>
            <p:nvPr/>
          </p:nvSpPr>
          <p:spPr>
            <a:xfrm>
              <a:off x="-744480" y="2199240"/>
              <a:ext cx="1570680" cy="781200"/>
            </a:xfrm>
            <a:custGeom>
              <a:avLst/>
              <a:gdLst/>
              <a:ahLst/>
              <a:rect l="l" t="t" r="r" b="b"/>
              <a:pathLst>
                <a:path w="2034279" h="1814511">
                  <a:moveTo>
                    <a:pt x="2381" y="1814511"/>
                  </a:moveTo>
                  <a:cubicBezTo>
                    <a:pt x="1587" y="1547811"/>
                    <a:pt x="794" y="1281111"/>
                    <a:pt x="0" y="1014411"/>
                  </a:cubicBezTo>
                  <a:lnTo>
                    <a:pt x="2034279" y="0"/>
                  </a:lnTo>
                  <a:lnTo>
                    <a:pt x="2034279" y="796413"/>
                  </a:lnTo>
                  <a:lnTo>
                    <a:pt x="2381" y="1814511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-116640" y="2729160"/>
              <a:ext cx="939240" cy="602640"/>
            </a:xfrm>
            <a:custGeom>
              <a:avLst/>
              <a:gdLst/>
              <a:ahLst/>
              <a:rect l="l" t="t" r="r" b="b"/>
              <a:pathLst>
                <a:path w="1215129" h="1400968">
                  <a:moveTo>
                    <a:pt x="0" y="1400968"/>
                  </a:moveTo>
                  <a:lnTo>
                    <a:pt x="0" y="596106"/>
                  </a:lnTo>
                  <a:lnTo>
                    <a:pt x="1212748" y="0"/>
                  </a:lnTo>
                  <a:cubicBezTo>
                    <a:pt x="1215129" y="263090"/>
                    <a:pt x="1212748" y="528561"/>
                    <a:pt x="1215129" y="791651"/>
                  </a:cubicBezTo>
                  <a:lnTo>
                    <a:pt x="0" y="140096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Straight Connector 17"/>
            <p:cNvSpPr/>
            <p:nvPr/>
          </p:nvSpPr>
          <p:spPr>
            <a:xfrm>
              <a:off x="1750320" y="167832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Straight Connector 18"/>
            <p:cNvSpPr/>
            <p:nvPr/>
          </p:nvSpPr>
          <p:spPr>
            <a:xfrm>
              <a:off x="1750320" y="221364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Straight Connector 19"/>
            <p:cNvSpPr/>
            <p:nvPr/>
          </p:nvSpPr>
          <p:spPr>
            <a:xfrm>
              <a:off x="1750320" y="272916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15"/>
          <p:cNvSpPr/>
          <p:nvPr/>
        </p:nvSpPr>
        <p:spPr>
          <a:xfrm>
            <a:off x="-117360" y="3219480"/>
            <a:ext cx="939600" cy="60336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4"/>
          <p:cNvSpPr/>
          <p:nvPr/>
        </p:nvSpPr>
        <p:spPr>
          <a:xfrm>
            <a:off x="835200" y="32194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4"/>
          <p:cNvSpPr/>
          <p:nvPr/>
        </p:nvSpPr>
        <p:spPr>
          <a:xfrm>
            <a:off x="835200" y="3755880"/>
            <a:ext cx="1562040" cy="3463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"/>
          <p:cNvSpPr/>
          <p:nvPr/>
        </p:nvSpPr>
        <p:spPr>
          <a:xfrm>
            <a:off x="835200" y="1676520"/>
            <a:ext cx="1558800" cy="347400"/>
          </a:xfrm>
          <a:prstGeom prst="pie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"/>
          <p:cNvSpPr/>
          <p:nvPr/>
        </p:nvSpPr>
        <p:spPr>
          <a:xfrm>
            <a:off x="835200" y="2197080"/>
            <a:ext cx="155880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4"/>
          <p:cNvSpPr/>
          <p:nvPr/>
        </p:nvSpPr>
        <p:spPr>
          <a:xfrm>
            <a:off x="828720" y="2722680"/>
            <a:ext cx="1562040" cy="345960"/>
          </a:xfrm>
          <a:prstGeom prst="pie">
            <a:avLst/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5"/>
          <p:cNvSpPr/>
          <p:nvPr/>
        </p:nvSpPr>
        <p:spPr>
          <a:xfrm>
            <a:off x="-114480" y="3757680"/>
            <a:ext cx="936720" cy="60948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2811600" y="1092240"/>
            <a:ext cx="57229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4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表明断路器在冲击短路电流作用下，承受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动力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6096e6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其值由导电和绝缘等部件的机械强度所决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5"/>
          <p:cNvSpPr/>
          <p:nvPr/>
        </p:nvSpPr>
        <p:spPr>
          <a:xfrm>
            <a:off x="3974400" y="13644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19"/>
          <p:cNvGrpSpPr/>
          <p:nvPr/>
        </p:nvGrpSpPr>
        <p:grpSpPr>
          <a:xfrm>
            <a:off x="-1995480" y="662040"/>
            <a:ext cx="4389480" cy="3862440"/>
            <a:chOff x="-1995480" y="662040"/>
            <a:chExt cx="4389480" cy="3862440"/>
          </a:xfrm>
        </p:grpSpPr>
        <p:pic>
          <p:nvPicPr>
            <p:cNvPr id="241" name="Picture 345" descr="shadow_1_m"/>
            <p:cNvPicPr/>
            <p:nvPr/>
          </p:nvPicPr>
          <p:blipFill>
            <a:blip r:embed="rId2"/>
            <a:srcRect l="61416" t="0" r="0" b="0"/>
            <a:stretch/>
          </p:blipFill>
          <p:spPr>
            <a:xfrm>
              <a:off x="823320" y="662040"/>
              <a:ext cx="392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Freeform 5"/>
            <p:cNvSpPr/>
            <p:nvPr/>
          </p:nvSpPr>
          <p:spPr>
            <a:xfrm>
              <a:off x="-1995480" y="1163520"/>
              <a:ext cx="2823840" cy="1141200"/>
            </a:xfrm>
            <a:custGeom>
              <a:avLst/>
              <a:gdLst/>
              <a:ahLst/>
              <a:rect l="l" t="t" r="r" b="b"/>
              <a:pathLst>
                <a:path w="3653298" h="2634276">
                  <a:moveTo>
                    <a:pt x="459" y="2634276"/>
                  </a:moveTo>
                  <a:cubicBezTo>
                    <a:pt x="-1128" y="2367371"/>
                    <a:pt x="2047" y="2095705"/>
                    <a:pt x="460" y="1828800"/>
                  </a:cubicBezTo>
                  <a:lnTo>
                    <a:pt x="3653298" y="0"/>
                  </a:lnTo>
                  <a:lnTo>
                    <a:pt x="3653298" y="796413"/>
                  </a:lnTo>
                  <a:lnTo>
                    <a:pt x="459" y="263427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>
              <a:off x="824760" y="1163520"/>
              <a:ext cx="1569240" cy="346320"/>
            </a:xfrm>
            <a:prstGeom prst="pie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1f6dd1"/>
                  </a:solidFill>
                  <a:latin typeface="微软雅黑"/>
                </a:rPr>
                <a:t>额定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"/>
            <p:cNvSpPr/>
            <p:nvPr/>
          </p:nvSpPr>
          <p:spPr>
            <a:xfrm>
              <a:off x="-1367640" y="1678320"/>
              <a:ext cx="2193480" cy="955440"/>
            </a:xfrm>
            <a:custGeom>
              <a:avLst/>
              <a:gdLst/>
              <a:ahLst/>
              <a:rect l="l" t="t" r="r" b="b"/>
              <a:pathLst>
                <a:path w="2839142" h="2219708">
                  <a:moveTo>
                    <a:pt x="2382" y="2219708"/>
                  </a:moveTo>
                  <a:lnTo>
                    <a:pt x="0" y="1419608"/>
                  </a:lnTo>
                  <a:lnTo>
                    <a:pt x="2839142" y="0"/>
                  </a:lnTo>
                  <a:lnTo>
                    <a:pt x="2839142" y="796413"/>
                  </a:lnTo>
                  <a:lnTo>
                    <a:pt x="2382" y="221970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-744480" y="2199240"/>
              <a:ext cx="1570680" cy="781200"/>
            </a:xfrm>
            <a:custGeom>
              <a:avLst/>
              <a:gdLst/>
              <a:ahLst/>
              <a:rect l="l" t="t" r="r" b="b"/>
              <a:pathLst>
                <a:path w="2034279" h="1814511">
                  <a:moveTo>
                    <a:pt x="2381" y="1814511"/>
                  </a:moveTo>
                  <a:cubicBezTo>
                    <a:pt x="1587" y="1547811"/>
                    <a:pt x="794" y="1281111"/>
                    <a:pt x="0" y="1014411"/>
                  </a:cubicBezTo>
                  <a:lnTo>
                    <a:pt x="2034279" y="0"/>
                  </a:lnTo>
                  <a:lnTo>
                    <a:pt x="2034279" y="796413"/>
                  </a:lnTo>
                  <a:lnTo>
                    <a:pt x="2381" y="1814511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-116640" y="2729160"/>
              <a:ext cx="939240" cy="602640"/>
            </a:xfrm>
            <a:custGeom>
              <a:avLst/>
              <a:gdLst/>
              <a:ahLst/>
              <a:rect l="l" t="t" r="r" b="b"/>
              <a:pathLst>
                <a:path w="1215129" h="1400968">
                  <a:moveTo>
                    <a:pt x="0" y="1400968"/>
                  </a:moveTo>
                  <a:lnTo>
                    <a:pt x="0" y="596106"/>
                  </a:lnTo>
                  <a:lnTo>
                    <a:pt x="1212748" y="0"/>
                  </a:lnTo>
                  <a:cubicBezTo>
                    <a:pt x="1215129" y="263090"/>
                    <a:pt x="1212748" y="528561"/>
                    <a:pt x="1215129" y="791651"/>
                  </a:cubicBezTo>
                  <a:lnTo>
                    <a:pt x="0" y="140096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17"/>
            <p:cNvSpPr/>
            <p:nvPr/>
          </p:nvSpPr>
          <p:spPr>
            <a:xfrm>
              <a:off x="1750320" y="167832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traight Connector 18"/>
            <p:cNvSpPr/>
            <p:nvPr/>
          </p:nvSpPr>
          <p:spPr>
            <a:xfrm>
              <a:off x="1750320" y="221364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traight Connector 19"/>
            <p:cNvSpPr/>
            <p:nvPr/>
          </p:nvSpPr>
          <p:spPr>
            <a:xfrm>
              <a:off x="1750320" y="272916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5"/>
          <p:cNvSpPr/>
          <p:nvPr/>
        </p:nvSpPr>
        <p:spPr>
          <a:xfrm>
            <a:off x="-117360" y="3219480"/>
            <a:ext cx="939600" cy="60336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4"/>
          <p:cNvSpPr/>
          <p:nvPr/>
        </p:nvSpPr>
        <p:spPr>
          <a:xfrm>
            <a:off x="835200" y="3219480"/>
            <a:ext cx="1562040" cy="345960"/>
          </a:xfrm>
          <a:prstGeom prst="pie">
            <a:avLst/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4"/>
          <p:cNvSpPr/>
          <p:nvPr/>
        </p:nvSpPr>
        <p:spPr>
          <a:xfrm>
            <a:off x="835200" y="3755880"/>
            <a:ext cx="1562040" cy="3463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4"/>
          <p:cNvSpPr/>
          <p:nvPr/>
        </p:nvSpPr>
        <p:spPr>
          <a:xfrm>
            <a:off x="835200" y="1676520"/>
            <a:ext cx="1558800" cy="347400"/>
          </a:xfrm>
          <a:prstGeom prst="pie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4"/>
          <p:cNvSpPr/>
          <p:nvPr/>
        </p:nvSpPr>
        <p:spPr>
          <a:xfrm>
            <a:off x="835200" y="2197080"/>
            <a:ext cx="155880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828720" y="27226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5"/>
          <p:cNvSpPr/>
          <p:nvPr/>
        </p:nvSpPr>
        <p:spPr>
          <a:xfrm>
            <a:off x="-114480" y="3757680"/>
            <a:ext cx="936720" cy="60948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2751120" y="1081080"/>
            <a:ext cx="5653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5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表明断路器承受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短路电流热效应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6096e6"/>
              </a:buClr>
              <a:buFont typeface="Wingdings" charset="2"/>
              <a:buChar char="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通电时间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一般取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4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最大电流有效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来综合表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5"/>
          <p:cNvSpPr/>
          <p:nvPr/>
        </p:nvSpPr>
        <p:spPr>
          <a:xfrm>
            <a:off x="3974400" y="136440"/>
            <a:ext cx="19670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9"/>
          <p:cNvGrpSpPr/>
          <p:nvPr/>
        </p:nvGrpSpPr>
        <p:grpSpPr>
          <a:xfrm>
            <a:off x="-1995480" y="662040"/>
            <a:ext cx="4389480" cy="3862440"/>
            <a:chOff x="-1995480" y="662040"/>
            <a:chExt cx="4389480" cy="3862440"/>
          </a:xfrm>
        </p:grpSpPr>
        <p:pic>
          <p:nvPicPr>
            <p:cNvPr id="262" name="Picture 345" descr="shadow_1_m"/>
            <p:cNvPicPr/>
            <p:nvPr/>
          </p:nvPicPr>
          <p:blipFill>
            <a:blip r:embed="rId2"/>
            <a:srcRect l="61416" t="0" r="0" b="0"/>
            <a:stretch/>
          </p:blipFill>
          <p:spPr>
            <a:xfrm>
              <a:off x="823320" y="662040"/>
              <a:ext cx="3924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Freeform 5"/>
            <p:cNvSpPr/>
            <p:nvPr/>
          </p:nvSpPr>
          <p:spPr>
            <a:xfrm>
              <a:off x="-1995480" y="1163520"/>
              <a:ext cx="2823840" cy="1141200"/>
            </a:xfrm>
            <a:custGeom>
              <a:avLst/>
              <a:gdLst/>
              <a:ahLst/>
              <a:rect l="l" t="t" r="r" b="b"/>
              <a:pathLst>
                <a:path w="3653298" h="2634276">
                  <a:moveTo>
                    <a:pt x="459" y="2634276"/>
                  </a:moveTo>
                  <a:cubicBezTo>
                    <a:pt x="-1128" y="2367371"/>
                    <a:pt x="2047" y="2095705"/>
                    <a:pt x="460" y="1828800"/>
                  </a:cubicBezTo>
                  <a:lnTo>
                    <a:pt x="3653298" y="0"/>
                  </a:lnTo>
                  <a:lnTo>
                    <a:pt x="3653298" y="796413"/>
                  </a:lnTo>
                  <a:lnTo>
                    <a:pt x="459" y="263427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824760" y="1163520"/>
              <a:ext cx="1569240" cy="346320"/>
            </a:xfrm>
            <a:prstGeom prst="pie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1f6dd1"/>
                  </a:solidFill>
                  <a:latin typeface="微软雅黑"/>
                </a:rPr>
                <a:t>额定电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-1367640" y="1678320"/>
              <a:ext cx="2193480" cy="955440"/>
            </a:xfrm>
            <a:custGeom>
              <a:avLst/>
              <a:gdLst/>
              <a:ahLst/>
              <a:rect l="l" t="t" r="r" b="b"/>
              <a:pathLst>
                <a:path w="2839142" h="2219708">
                  <a:moveTo>
                    <a:pt x="2382" y="2219708"/>
                  </a:moveTo>
                  <a:lnTo>
                    <a:pt x="0" y="1419608"/>
                  </a:lnTo>
                  <a:lnTo>
                    <a:pt x="2839142" y="0"/>
                  </a:lnTo>
                  <a:lnTo>
                    <a:pt x="2839142" y="796413"/>
                  </a:lnTo>
                  <a:lnTo>
                    <a:pt x="2382" y="221970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-744480" y="2199240"/>
              <a:ext cx="1570680" cy="781200"/>
            </a:xfrm>
            <a:custGeom>
              <a:avLst/>
              <a:gdLst/>
              <a:ahLst/>
              <a:rect l="l" t="t" r="r" b="b"/>
              <a:pathLst>
                <a:path w="2034279" h="1814511">
                  <a:moveTo>
                    <a:pt x="2381" y="1814511"/>
                  </a:moveTo>
                  <a:cubicBezTo>
                    <a:pt x="1587" y="1547811"/>
                    <a:pt x="794" y="1281111"/>
                    <a:pt x="0" y="1014411"/>
                  </a:cubicBezTo>
                  <a:lnTo>
                    <a:pt x="2034279" y="0"/>
                  </a:lnTo>
                  <a:lnTo>
                    <a:pt x="2034279" y="796413"/>
                  </a:lnTo>
                  <a:lnTo>
                    <a:pt x="2381" y="1814511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>
              <a:off x="-116640" y="2729160"/>
              <a:ext cx="939240" cy="602640"/>
            </a:xfrm>
            <a:custGeom>
              <a:avLst/>
              <a:gdLst/>
              <a:ahLst/>
              <a:rect l="l" t="t" r="r" b="b"/>
              <a:pathLst>
                <a:path w="1215129" h="1400968">
                  <a:moveTo>
                    <a:pt x="0" y="1400968"/>
                  </a:moveTo>
                  <a:lnTo>
                    <a:pt x="0" y="596106"/>
                  </a:lnTo>
                  <a:lnTo>
                    <a:pt x="1212748" y="0"/>
                  </a:lnTo>
                  <a:cubicBezTo>
                    <a:pt x="1215129" y="263090"/>
                    <a:pt x="1212748" y="528561"/>
                    <a:pt x="1215129" y="791651"/>
                  </a:cubicBezTo>
                  <a:lnTo>
                    <a:pt x="0" y="1400968"/>
                  </a:lnTo>
                  <a:close/>
                </a:path>
              </a:pathLst>
            </a:custGeom>
            <a:solidFill>
              <a:srgbClr val="f2f2f2"/>
            </a:solidFill>
            <a:ln w="3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traight Connector 17"/>
            <p:cNvSpPr/>
            <p:nvPr/>
          </p:nvSpPr>
          <p:spPr>
            <a:xfrm>
              <a:off x="1750320" y="167832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Straight Connector 18"/>
            <p:cNvSpPr/>
            <p:nvPr/>
          </p:nvSpPr>
          <p:spPr>
            <a:xfrm>
              <a:off x="1750320" y="221364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Straight Connector 19"/>
            <p:cNvSpPr/>
            <p:nvPr/>
          </p:nvSpPr>
          <p:spPr>
            <a:xfrm>
              <a:off x="1750320" y="2729160"/>
              <a:ext cx="0" cy="346320"/>
            </a:xfrm>
            <a:prstGeom prst="line">
              <a:avLst/>
            </a:prstGeom>
            <a:ln w="6480">
              <a:solidFill>
                <a:srgbClr val="dfeaf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Freeform 15"/>
          <p:cNvSpPr/>
          <p:nvPr/>
        </p:nvSpPr>
        <p:spPr>
          <a:xfrm>
            <a:off x="-117360" y="3219480"/>
            <a:ext cx="939600" cy="60336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4"/>
          <p:cNvSpPr/>
          <p:nvPr/>
        </p:nvSpPr>
        <p:spPr>
          <a:xfrm>
            <a:off x="835200" y="32194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热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4"/>
          <p:cNvSpPr/>
          <p:nvPr/>
        </p:nvSpPr>
        <p:spPr>
          <a:xfrm>
            <a:off x="835200" y="3755880"/>
            <a:ext cx="1562040" cy="346320"/>
          </a:xfrm>
          <a:prstGeom prst="pie">
            <a:avLst/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开断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4"/>
          <p:cNvSpPr/>
          <p:nvPr/>
        </p:nvSpPr>
        <p:spPr>
          <a:xfrm>
            <a:off x="835200" y="1676520"/>
            <a:ext cx="1558800" cy="347400"/>
          </a:xfrm>
          <a:prstGeom prst="pie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4"/>
          <p:cNvSpPr/>
          <p:nvPr/>
        </p:nvSpPr>
        <p:spPr>
          <a:xfrm>
            <a:off x="835200" y="2197080"/>
            <a:ext cx="155880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额定开断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4"/>
          <p:cNvSpPr/>
          <p:nvPr/>
        </p:nvSpPr>
        <p:spPr>
          <a:xfrm>
            <a:off x="828720" y="2722680"/>
            <a:ext cx="1562040" cy="3459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动稳定电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5"/>
          <p:cNvSpPr/>
          <p:nvPr/>
        </p:nvSpPr>
        <p:spPr>
          <a:xfrm>
            <a:off x="-114480" y="3757680"/>
            <a:ext cx="936720" cy="609480"/>
          </a:xfrm>
          <a:custGeom>
            <a:avLst/>
            <a:gdLst/>
            <a:ahLst/>
            <a:rect l="l" t="t" r="r" b="b"/>
            <a:pathLst>
              <a:path w="1215129" h="1400968">
                <a:moveTo>
                  <a:pt x="0" y="1400968"/>
                </a:moveTo>
                <a:lnTo>
                  <a:pt x="0" y="596106"/>
                </a:lnTo>
                <a:lnTo>
                  <a:pt x="1212748" y="0"/>
                </a:lnTo>
                <a:cubicBezTo>
                  <a:pt x="1215129" y="263090"/>
                  <a:pt x="1212748" y="528561"/>
                  <a:pt x="1215129" y="791651"/>
                </a:cubicBezTo>
                <a:lnTo>
                  <a:pt x="0" y="1400968"/>
                </a:lnTo>
                <a:close/>
              </a:path>
            </a:pathLst>
          </a:custGeom>
          <a:solidFill>
            <a:srgbClr val="f2f2f2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6"/>
          <p:cNvSpPr/>
          <p:nvPr/>
        </p:nvSpPr>
        <p:spPr>
          <a:xfrm>
            <a:off x="2638440" y="1163520"/>
            <a:ext cx="603252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6.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断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 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从发出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跳闸信号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即跳闸线圈加上电压）起，到断路器开断至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三相电弧完全熄灭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时为止所需要的全部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281" name="文本框 5"/>
          <p:cNvSpPr/>
          <p:nvPr/>
        </p:nvSpPr>
        <p:spPr>
          <a:xfrm>
            <a:off x="4012920" y="9540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产品型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9"/>
          <p:cNvSpPr/>
          <p:nvPr/>
        </p:nvSpPr>
        <p:spPr>
          <a:xfrm>
            <a:off x="2511360" y="733320"/>
            <a:ext cx="25416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1"/>
          <p:cNvSpPr/>
          <p:nvPr/>
        </p:nvSpPr>
        <p:spPr>
          <a:xfrm>
            <a:off x="3159000" y="733320"/>
            <a:ext cx="25416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2"/>
          <p:cNvSpPr/>
          <p:nvPr/>
        </p:nvSpPr>
        <p:spPr>
          <a:xfrm>
            <a:off x="3807000" y="733320"/>
            <a:ext cx="25380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3"/>
          <p:cNvSpPr/>
          <p:nvPr/>
        </p:nvSpPr>
        <p:spPr>
          <a:xfrm>
            <a:off x="5064120" y="733320"/>
            <a:ext cx="25416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14"/>
          <p:cNvSpPr/>
          <p:nvPr/>
        </p:nvSpPr>
        <p:spPr>
          <a:xfrm>
            <a:off x="5711760" y="733320"/>
            <a:ext cx="25416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15"/>
          <p:cNvSpPr/>
          <p:nvPr/>
        </p:nvSpPr>
        <p:spPr>
          <a:xfrm>
            <a:off x="6700680" y="733320"/>
            <a:ext cx="252720" cy="3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6"/>
          <p:cNvSpPr/>
          <p:nvPr/>
        </p:nvSpPr>
        <p:spPr>
          <a:xfrm>
            <a:off x="4352760" y="890640"/>
            <a:ext cx="37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7"/>
          <p:cNvSpPr/>
          <p:nvPr/>
        </p:nvSpPr>
        <p:spPr>
          <a:xfrm flipV="1">
            <a:off x="6224760" y="712800"/>
            <a:ext cx="266400" cy="33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肘形连接符 18"/>
          <p:cNvCxnSpPr>
            <a:stCxn id="282" idx="2"/>
          </p:cNvCxnSpPr>
          <p:nvPr/>
        </p:nvCxnSpPr>
        <p:spPr>
          <a:xfrm rot="5400000">
            <a:off x="1685160" y="982800"/>
            <a:ext cx="902160" cy="10036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1" name="肘形连接符 19"/>
          <p:cNvCxnSpPr>
            <a:stCxn id="283" idx="2"/>
          </p:cNvCxnSpPr>
          <p:nvPr/>
        </p:nvCxnSpPr>
        <p:spPr>
          <a:xfrm rot="5400000">
            <a:off x="2288520" y="1724040"/>
            <a:ext cx="1688040" cy="306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2" name="肘形连接符 20"/>
          <p:cNvCxnSpPr/>
          <p:nvPr/>
        </p:nvCxnSpPr>
        <p:spPr>
          <a:xfrm flipH="1" rot="16200000">
            <a:off x="3336480" y="1627560"/>
            <a:ext cx="1731240" cy="523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93" name="肘形连接符 21"/>
          <p:cNvCxnSpPr/>
          <p:nvPr/>
        </p:nvCxnSpPr>
        <p:spPr>
          <a:xfrm flipH="1" rot="16200000">
            <a:off x="4478760" y="1753920"/>
            <a:ext cx="1707480" cy="2941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294" name="文本框 24"/>
          <p:cNvSpPr/>
          <p:nvPr/>
        </p:nvSpPr>
        <p:spPr>
          <a:xfrm>
            <a:off x="420840" y="1765440"/>
            <a:ext cx="208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断路器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少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D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多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Z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真空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L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六氟化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Q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压缩空气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K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空气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C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磁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5"/>
          <p:cNvSpPr/>
          <p:nvPr/>
        </p:nvSpPr>
        <p:spPr>
          <a:xfrm>
            <a:off x="2452680" y="2739960"/>
            <a:ext cx="16081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使用环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N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户内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W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户外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6"/>
          <p:cNvSpPr/>
          <p:nvPr/>
        </p:nvSpPr>
        <p:spPr>
          <a:xfrm>
            <a:off x="4194000" y="2708280"/>
            <a:ext cx="61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序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7"/>
          <p:cNvSpPr/>
          <p:nvPr/>
        </p:nvSpPr>
        <p:spPr>
          <a:xfrm>
            <a:off x="5062680" y="2735280"/>
            <a:ext cx="1527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额定电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（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KV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8"/>
          <p:cNvSpPr/>
          <p:nvPr/>
        </p:nvSpPr>
        <p:spPr>
          <a:xfrm>
            <a:off x="6692760" y="2462040"/>
            <a:ext cx="1764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补充工作特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G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改进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C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手车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 —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分相操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9"/>
          <p:cNvSpPr/>
          <p:nvPr/>
        </p:nvSpPr>
        <p:spPr>
          <a:xfrm>
            <a:off x="7407360" y="1362240"/>
            <a:ext cx="1400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额定电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（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0"/>
          <p:cNvSpPr/>
          <p:nvPr/>
        </p:nvSpPr>
        <p:spPr>
          <a:xfrm>
            <a:off x="2428920" y="4168800"/>
            <a:ext cx="63784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1f6dd1"/>
                </a:solidFill>
                <a:latin typeface="微软雅黑"/>
              </a:rPr>
              <a:t>例：</a:t>
            </a:r>
            <a:r>
              <a:rPr b="0" lang="en-US" sz="1600" spc="-1" strike="noStrike">
                <a:solidFill>
                  <a:srgbClr val="1f6dd1"/>
                </a:solidFill>
                <a:latin typeface="微软雅黑"/>
              </a:rPr>
              <a:t>ZN12-10/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户内式真空断路器，设计序号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=10kV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微软雅黑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=1000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48"/>
          <p:cNvSpPr/>
          <p:nvPr/>
        </p:nvSpPr>
        <p:spPr>
          <a:xfrm>
            <a:off x="5838840" y="1047600"/>
            <a:ext cx="0" cy="155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1"/>
          <p:cNvSpPr/>
          <p:nvPr/>
        </p:nvSpPr>
        <p:spPr>
          <a:xfrm>
            <a:off x="5832360" y="2610000"/>
            <a:ext cx="86040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57"/>
          <p:cNvSpPr/>
          <p:nvPr/>
        </p:nvSpPr>
        <p:spPr>
          <a:xfrm>
            <a:off x="6827760" y="1033560"/>
            <a:ext cx="0" cy="52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61"/>
          <p:cNvSpPr/>
          <p:nvPr/>
        </p:nvSpPr>
        <p:spPr>
          <a:xfrm>
            <a:off x="6827760" y="1554120"/>
            <a:ext cx="57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5"/>
          <p:cNvSpPr/>
          <p:nvPr/>
        </p:nvSpPr>
        <p:spPr>
          <a:xfrm>
            <a:off x="3869640" y="9036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操动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6"/>
          <p:cNvSpPr/>
          <p:nvPr/>
        </p:nvSpPr>
        <p:spPr>
          <a:xfrm>
            <a:off x="876240" y="784080"/>
            <a:ext cx="71722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200000"/>
              </a:lnSpc>
              <a:spcBef>
                <a:spcPts val="499"/>
              </a:spcBef>
              <a:spcAft>
                <a:spcPts val="499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用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完成断路器的合闸、分闸动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spcBef>
                <a:spcPts val="499"/>
              </a:spcBef>
              <a:spcAft>
                <a:spcPts val="499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组成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操动机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传动机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spcBef>
                <a:spcPts val="499"/>
              </a:spcBef>
              <a:spcAft>
                <a:spcPts val="499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操动机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动力机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扣住机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脱扣机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spcBef>
                <a:spcPts val="499"/>
              </a:spcBef>
              <a:spcAft>
                <a:spcPts val="499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传动机构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拉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提升机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缓冲机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5781600" y="784080"/>
            <a:ext cx="27050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5"/>
          <p:cNvSpPr/>
          <p:nvPr/>
        </p:nvSpPr>
        <p:spPr>
          <a:xfrm>
            <a:off x="3869640" y="90360"/>
            <a:ext cx="16621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操动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内容占位符 2"/>
          <p:cNvSpPr/>
          <p:nvPr/>
        </p:nvSpPr>
        <p:spPr>
          <a:xfrm>
            <a:off x="814320" y="849240"/>
            <a:ext cx="802980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操动能源可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手动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人力合闸，弹簧力分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磁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磁力合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液压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高压油推动活塞实现合闸与分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气压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压缩空气推动活塞实现合闸与分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弹簧型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小功率电动机将弹簧拉伸储能实现合闸与分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"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6507000" y="752400"/>
            <a:ext cx="2337120" cy="2917800"/>
          </a:xfrm>
          <a:prstGeom prst="rect">
            <a:avLst/>
          </a:prstGeom>
          <a:ln w="0">
            <a:noFill/>
          </a:ln>
        </p:spPr>
      </p:pic>
      <p:sp>
        <p:nvSpPr>
          <p:cNvPr id="315" name="直接连接符 17"/>
          <p:cNvSpPr/>
          <p:nvPr/>
        </p:nvSpPr>
        <p:spPr>
          <a:xfrm>
            <a:off x="7224840" y="2211480"/>
            <a:ext cx="0" cy="677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9"/>
          <p:cNvSpPr/>
          <p:nvPr/>
        </p:nvSpPr>
        <p:spPr>
          <a:xfrm>
            <a:off x="7224840" y="2211480"/>
            <a:ext cx="95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21"/>
          <p:cNvSpPr/>
          <p:nvPr/>
        </p:nvSpPr>
        <p:spPr>
          <a:xfrm>
            <a:off x="8180280" y="2211480"/>
            <a:ext cx="0" cy="677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3"/>
          <p:cNvSpPr/>
          <p:nvPr/>
        </p:nvSpPr>
        <p:spPr>
          <a:xfrm>
            <a:off x="7224840" y="2889360"/>
            <a:ext cx="95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 flipV="1">
            <a:off x="2579760" y="2776320"/>
            <a:ext cx="1839960" cy="190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419720" y="188136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379600" y="1480680"/>
            <a:ext cx="2027160" cy="10018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 flipV="1">
            <a:off x="2543040" y="2182320"/>
            <a:ext cx="1851120" cy="3826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3"/>
          <p:cNvSpPr/>
          <p:nvPr/>
        </p:nvSpPr>
        <p:spPr>
          <a:xfrm>
            <a:off x="2516040" y="3309840"/>
            <a:ext cx="1871640" cy="8524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SubTitle_1"/>
          <p:cNvSpPr/>
          <p:nvPr/>
        </p:nvSpPr>
        <p:spPr>
          <a:xfrm>
            <a:off x="4419720" y="120024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组成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SubTitle_3"/>
          <p:cNvSpPr/>
          <p:nvPr/>
        </p:nvSpPr>
        <p:spPr>
          <a:xfrm>
            <a:off x="4454640" y="3159000"/>
            <a:ext cx="3560760" cy="44316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Other_5"/>
          <p:cNvSpPr/>
          <p:nvPr/>
        </p:nvSpPr>
        <p:spPr>
          <a:xfrm>
            <a:off x="766800" y="181944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Title_1"/>
          <p:cNvSpPr/>
          <p:nvPr/>
        </p:nvSpPr>
        <p:spPr>
          <a:xfrm>
            <a:off x="984240" y="2038320"/>
            <a:ext cx="15210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4"/>
          <p:cNvSpPr/>
          <p:nvPr/>
        </p:nvSpPr>
        <p:spPr>
          <a:xfrm>
            <a:off x="4119840" y="44280"/>
            <a:ext cx="141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高压断路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SubTitle_3"/>
          <p:cNvSpPr/>
          <p:nvPr/>
        </p:nvSpPr>
        <p:spPr>
          <a:xfrm>
            <a:off x="4454640" y="3855960"/>
            <a:ext cx="3560760" cy="48888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产品型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2"/>
          <p:cNvSpPr/>
          <p:nvPr/>
        </p:nvSpPr>
        <p:spPr>
          <a:xfrm>
            <a:off x="2684520" y="3129120"/>
            <a:ext cx="1709640" cy="33156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SubTitle_3"/>
          <p:cNvSpPr/>
          <p:nvPr/>
        </p:nvSpPr>
        <p:spPr>
          <a:xfrm>
            <a:off x="4459320" y="2540160"/>
            <a:ext cx="3560760" cy="5108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主要技术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SubTitle_3"/>
          <p:cNvSpPr/>
          <p:nvPr/>
        </p:nvSpPr>
        <p:spPr>
          <a:xfrm>
            <a:off x="4459320" y="3198960"/>
            <a:ext cx="3560760" cy="47448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产品型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H_SubTitle_3"/>
          <p:cNvSpPr/>
          <p:nvPr/>
        </p:nvSpPr>
        <p:spPr>
          <a:xfrm>
            <a:off x="4454640" y="3905280"/>
            <a:ext cx="3560760" cy="3906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高压断路器的操动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6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6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321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7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5"/>
          <p:cNvSpPr/>
          <p:nvPr/>
        </p:nvSpPr>
        <p:spPr>
          <a:xfrm>
            <a:off x="4064400" y="9540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组成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内容占位符 2"/>
          <p:cNvSpPr/>
          <p:nvPr/>
        </p:nvSpPr>
        <p:spPr>
          <a:xfrm>
            <a:off x="774720" y="777960"/>
            <a:ext cx="751032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451"/>
              </a:spcBef>
              <a:buClr>
                <a:srgbClr val="1f6dd1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概念：电力系统一次设备中负责控制和保护的关键电器，是高压开关设备中最重要、最复杂的一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451"/>
              </a:spcBef>
              <a:buClr>
                <a:srgbClr val="1f6dd1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组成：：①开断部分；②操动和传动部分；③绝缘部分。此三部分中以开断部分的灭弧室为核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51"/>
              </a:spcBef>
              <a:buClr>
                <a:srgbClr val="0563c1"/>
              </a:buClr>
              <a:buFont typeface="Wingdings" charset="2"/>
              <a:buChar char=""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4" descr=""/>
          <p:cNvPicPr/>
          <p:nvPr/>
        </p:nvPicPr>
        <p:blipFill>
          <a:blip r:embed="rId2"/>
          <a:stretch/>
        </p:blipFill>
        <p:spPr>
          <a:xfrm>
            <a:off x="4233960" y="2251080"/>
            <a:ext cx="38862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5"/>
          <p:cNvSpPr/>
          <p:nvPr/>
        </p:nvSpPr>
        <p:spPr>
          <a:xfrm>
            <a:off x="4064400" y="95400"/>
            <a:ext cx="18147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组成及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355920" y="2054160"/>
            <a:ext cx="38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系统正常运行时，根据需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投切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气设备或线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909720" y="2325600"/>
            <a:ext cx="160956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451"/>
              </a:spcBef>
              <a:buClr>
                <a:srgbClr val="1f6dd1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451"/>
              </a:spcBef>
              <a:buClr>
                <a:srgbClr val="1f6dd1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左大括号 10"/>
          <p:cNvSpPr/>
          <p:nvPr/>
        </p:nvSpPr>
        <p:spPr>
          <a:xfrm>
            <a:off x="2101680" y="2378160"/>
            <a:ext cx="300240" cy="1171440"/>
          </a:xfrm>
          <a:custGeom>
            <a:avLst/>
            <a:gdLst>
              <a:gd name="textAreaLeft" fmla="*/ 191880 w 300240"/>
              <a:gd name="textAreaRight" fmla="*/ 300240 w 300240"/>
              <a:gd name="textAreaTop" fmla="*/ 7560 h 1171440"/>
              <a:gd name="textAreaBottom" fmla="*/ 1163880 h 117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1"/>
                  <a:pt x="10800" y="462"/>
                </a:cubicBezTo>
                <a:lnTo>
                  <a:pt x="10800" y="9887"/>
                </a:lnTo>
                <a:cubicBezTo>
                  <a:pt x="10800" y="10118"/>
                  <a:pt x="5400" y="10349"/>
                  <a:pt x="0" y="10349"/>
                </a:cubicBezTo>
                <a:cubicBezTo>
                  <a:pt x="5400" y="10349"/>
                  <a:pt x="10800" y="10580"/>
                  <a:pt x="10800" y="10811"/>
                </a:cubicBezTo>
                <a:lnTo>
                  <a:pt x="10800" y="21138"/>
                </a:lnTo>
                <a:cubicBezTo>
                  <a:pt x="10800" y="213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2600280" y="21938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2600280" y="336564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3355920" y="3225960"/>
            <a:ext cx="38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系统发生故障时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迅速切除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故障设备或线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"/>
          <p:cNvSpPr/>
          <p:nvPr/>
        </p:nvSpPr>
        <p:spPr>
          <a:xfrm>
            <a:off x="833400" y="971640"/>
            <a:ext cx="45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断路器承担着控制和保护的双重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5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6"/>
          <p:cNvSpPr/>
          <p:nvPr/>
        </p:nvSpPr>
        <p:spPr>
          <a:xfrm>
            <a:off x="658800" y="739800"/>
            <a:ext cx="47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按采用的灭弧介质的不同可分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7"/>
          <p:cNvSpPr/>
          <p:nvPr/>
        </p:nvSpPr>
        <p:spPr>
          <a:xfrm>
            <a:off x="2027160" y="1612800"/>
            <a:ext cx="1403280" cy="487440"/>
          </a:xfrm>
          <a:prstGeom prst="roundRect">
            <a:avLst>
              <a:gd name="adj" fmla="val 16667"/>
            </a:avLst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油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1"/>
          <p:cNvSpPr/>
          <p:nvPr/>
        </p:nvSpPr>
        <p:spPr>
          <a:xfrm>
            <a:off x="4829040" y="2803680"/>
            <a:ext cx="2802240" cy="487080"/>
          </a:xfrm>
          <a:prstGeom prst="roundRect">
            <a:avLst>
              <a:gd name="adj" fmla="val 16667"/>
            </a:avLst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六氟化硫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S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微软雅黑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）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5"/>
          <p:cNvSpPr/>
          <p:nvPr/>
        </p:nvSpPr>
        <p:spPr>
          <a:xfrm>
            <a:off x="1969920" y="2803680"/>
            <a:ext cx="1517760" cy="487080"/>
          </a:xfrm>
          <a:prstGeom prst="roundRect">
            <a:avLst>
              <a:gd name="adj" fmla="val 16667"/>
            </a:avLst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真空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6"/>
          <p:cNvSpPr/>
          <p:nvPr/>
        </p:nvSpPr>
        <p:spPr>
          <a:xfrm>
            <a:off x="5027760" y="1612800"/>
            <a:ext cx="2259000" cy="487440"/>
          </a:xfrm>
          <a:prstGeom prst="roundRect">
            <a:avLst>
              <a:gd name="adj" fmla="val 16667"/>
            </a:avLst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压缩空气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880920" y="620640"/>
            <a:ext cx="75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油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采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变压器油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作为灭弧介质，可分为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多油断路器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少油断路器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774720" y="1541520"/>
            <a:ext cx="263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多油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2"/>
          <a:stretch/>
        </p:blipFill>
        <p:spPr>
          <a:xfrm>
            <a:off x="876240" y="2085840"/>
            <a:ext cx="2616120" cy="28623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8"/>
          <p:cNvSpPr/>
          <p:nvPr/>
        </p:nvSpPr>
        <p:spPr>
          <a:xfrm>
            <a:off x="3908880" y="9540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5330880" y="2146320"/>
            <a:ext cx="2682720" cy="2801880"/>
          </a:xfrm>
          <a:prstGeom prst="rect">
            <a:avLst/>
          </a:prstGeom>
          <a:ln w="0">
            <a:noFill/>
          </a:ln>
        </p:spPr>
      </p:pic>
      <p:sp>
        <p:nvSpPr>
          <p:cNvPr id="131" name="矩形 5"/>
          <p:cNvSpPr/>
          <p:nvPr/>
        </p:nvSpPr>
        <p:spPr>
          <a:xfrm>
            <a:off x="5175360" y="1547640"/>
            <a:ext cx="193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少油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8"/>
          <p:cNvSpPr/>
          <p:nvPr/>
        </p:nvSpPr>
        <p:spPr>
          <a:xfrm>
            <a:off x="3908880" y="11592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593640" y="898560"/>
            <a:ext cx="428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压缩空气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采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压缩空气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做灭弧介质和绝缘介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3" descr=""/>
          <p:cNvPicPr/>
          <p:nvPr/>
        </p:nvPicPr>
        <p:blipFill>
          <a:blip r:embed="rId2"/>
          <a:stretch/>
        </p:blipFill>
        <p:spPr>
          <a:xfrm>
            <a:off x="4991040" y="1041480"/>
            <a:ext cx="26830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8"/>
          <p:cNvSpPr/>
          <p:nvPr/>
        </p:nvSpPr>
        <p:spPr>
          <a:xfrm>
            <a:off x="3908880" y="11592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612720" y="898560"/>
            <a:ext cx="3903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3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真空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    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采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真空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做灭弧介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" descr=""/>
          <p:cNvPicPr/>
          <p:nvPr/>
        </p:nvPicPr>
        <p:blipFill>
          <a:blip r:embed="rId2"/>
          <a:stretch/>
        </p:blipFill>
        <p:spPr>
          <a:xfrm>
            <a:off x="3584520" y="662040"/>
            <a:ext cx="4254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6"/>
          <p:cNvSpPr/>
          <p:nvPr/>
        </p:nvSpPr>
        <p:spPr>
          <a:xfrm>
            <a:off x="3908880" y="115920"/>
            <a:ext cx="1357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1f6dd1"/>
                </a:solidFill>
                <a:latin typeface="微软雅黑"/>
              </a:rPr>
              <a:t>高压断路器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7"/>
          <p:cNvSpPr/>
          <p:nvPr/>
        </p:nvSpPr>
        <p:spPr>
          <a:xfrm>
            <a:off x="600120" y="1382760"/>
            <a:ext cx="41400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采用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SF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微软雅黑"/>
                <a:ea typeface="黑体"/>
              </a:rPr>
              <a:t>6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气体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做灭弧介质和绝缘介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3" descr=""/>
          <p:cNvPicPr/>
          <p:nvPr/>
        </p:nvPicPr>
        <p:blipFill>
          <a:blip r:embed="rId2"/>
          <a:stretch/>
        </p:blipFill>
        <p:spPr>
          <a:xfrm>
            <a:off x="4967280" y="898560"/>
            <a:ext cx="3160800" cy="31608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600120" y="898560"/>
            <a:ext cx="28922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4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六氟化硫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SF</a:t>
            </a:r>
            <a:r>
              <a:rPr b="0" lang="en-US" sz="1800" spc="-1" strike="noStrike" baseline="-25000">
                <a:solidFill>
                  <a:srgbClr val="1f6dd1"/>
                </a:solidFill>
                <a:latin typeface="微软雅黑"/>
                <a:ea typeface="黑体"/>
              </a:rPr>
              <a:t>6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  <a:ea typeface="黑体"/>
              </a:rPr>
              <a:t>）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3:50Z</dcterms:modified>
  <cp:revision>30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