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CAC-7236-4973-988F-23AACA43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14B-4A88-4064-A3DD-FF31DFF2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D0CF-A483-4E6D-BD49-85352459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D5C-C6C1-4C64-AA7F-A230EE39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B38-E9FF-46DB-ACAF-37A019F0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43C-0A5E-47AD-9B8F-BCB45EA7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B74-57F9-4CA1-8237-10C9C624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E4E-4806-405C-871F-FE886D9E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1EE-DCA8-4836-A28E-3BFB8853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03E6-7F56-4AB6-B0A0-00E2FFAA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448-6BF3-483E-9802-D4FC5488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99D-790F-46AC-9BAC-0BB1F998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4735440"/>
            <a:ext cx="296856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18DBA713-FCD1-419F-A9E0-0A7C45AD1999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-9360" y="3648240"/>
            <a:ext cx="9162720" cy="419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8"/>
          <p:cNvSpPr/>
          <p:nvPr/>
        </p:nvSpPr>
        <p:spPr>
          <a:xfrm>
            <a:off x="1577880" y="3005280"/>
            <a:ext cx="59896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压隔离开关的运行与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压隔离开关的运行与维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                 </a:t>
            </a: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讲人：梁卫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6000" y="1136520"/>
            <a:ext cx="1692000" cy="1602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7"/>
          <p:cNvSpPr/>
          <p:nvPr/>
        </p:nvSpPr>
        <p:spPr>
          <a:xfrm>
            <a:off x="2670840" y="326880"/>
            <a:ext cx="3785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Zhengzhou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lectric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ower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echnology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olleg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-(width-0)*(1-$)^6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-(width-0)*(1-$)^6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138" name="矩形 14"/>
          <p:cNvSpPr/>
          <p:nvPr/>
        </p:nvSpPr>
        <p:spPr>
          <a:xfrm>
            <a:off x="-9360" y="3432240"/>
            <a:ext cx="9162720" cy="635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ject 2"/>
          <p:cNvSpPr/>
          <p:nvPr/>
        </p:nvSpPr>
        <p:spPr>
          <a:xfrm>
            <a:off x="2705040" y="3489480"/>
            <a:ext cx="42195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360"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7"/>
          <p:cNvSpPr/>
          <p:nvPr/>
        </p:nvSpPr>
        <p:spPr>
          <a:xfrm>
            <a:off x="2670840" y="379440"/>
            <a:ext cx="3785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Zhengzhou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lectric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ower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echnology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olleg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MH_SubTitle_2"/>
          <p:cNvSpPr/>
          <p:nvPr/>
        </p:nvSpPr>
        <p:spPr>
          <a:xfrm>
            <a:off x="4533840" y="2386080"/>
            <a:ext cx="35607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巡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H_Other_1"/>
          <p:cNvSpPr/>
          <p:nvPr/>
        </p:nvSpPr>
        <p:spPr>
          <a:xfrm flipV="1">
            <a:off x="2944800" y="1797120"/>
            <a:ext cx="1587600" cy="4348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Other_2"/>
          <p:cNvSpPr/>
          <p:nvPr/>
        </p:nvSpPr>
        <p:spPr>
          <a:xfrm flipV="1">
            <a:off x="3048120" y="2674440"/>
            <a:ext cx="1484280" cy="4140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SubTitle_1"/>
          <p:cNvSpPr/>
          <p:nvPr/>
        </p:nvSpPr>
        <p:spPr>
          <a:xfrm>
            <a:off x="4532400" y="1536840"/>
            <a:ext cx="356220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运行规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Other_5"/>
          <p:cNvSpPr/>
          <p:nvPr/>
        </p:nvSpPr>
        <p:spPr>
          <a:xfrm>
            <a:off x="1092240" y="1685880"/>
            <a:ext cx="1955880" cy="1954080"/>
          </a:xfrm>
          <a:prstGeom prst="ellipse">
            <a:avLst/>
          </a:prstGeom>
          <a:solidFill>
            <a:srgbClr val="bfd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Title_1"/>
          <p:cNvSpPr/>
          <p:nvPr/>
        </p:nvSpPr>
        <p:spPr>
          <a:xfrm>
            <a:off x="1311120" y="1905120"/>
            <a:ext cx="1519560" cy="1519200"/>
          </a:xfrm>
          <a:prstGeom prst="ellipse">
            <a:avLst/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14"/>
          <p:cNvSpPr/>
          <p:nvPr/>
        </p:nvSpPr>
        <p:spPr>
          <a:xfrm>
            <a:off x="3405600" y="123840"/>
            <a:ext cx="23328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高压隔离开关的运行与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MH_SubTitle_2"/>
          <p:cNvSpPr/>
          <p:nvPr/>
        </p:nvSpPr>
        <p:spPr>
          <a:xfrm>
            <a:off x="4533840" y="3235320"/>
            <a:ext cx="3560760" cy="5112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H_Other_2"/>
          <p:cNvSpPr/>
          <p:nvPr/>
        </p:nvSpPr>
        <p:spPr>
          <a:xfrm>
            <a:off x="2944800" y="3133800"/>
            <a:ext cx="1587600" cy="35712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4"/>
          <p:cNvSpPr/>
          <p:nvPr/>
        </p:nvSpPr>
        <p:spPr>
          <a:xfrm>
            <a:off x="847800" y="701640"/>
            <a:ext cx="13208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一般规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"/>
          <p:cNvSpPr/>
          <p:nvPr/>
        </p:nvSpPr>
        <p:spPr>
          <a:xfrm>
            <a:off x="4197960" y="136440"/>
            <a:ext cx="7477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运行规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3"/>
          <p:cNvSpPr/>
          <p:nvPr/>
        </p:nvSpPr>
        <p:spPr>
          <a:xfrm>
            <a:off x="847800" y="1184400"/>
            <a:ext cx="765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隔离开关应满足装设地点的运行工况，在正常运行和检修或发生短路情况下应满足安全要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隔离开关和接地开关所有部件和箱体上，尤其是传动连接部件和运动部位不得有积水出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0"/>
          <p:cNvSpPr/>
          <p:nvPr/>
        </p:nvSpPr>
        <p:spPr>
          <a:xfrm>
            <a:off x="847800" y="2637000"/>
            <a:ext cx="20383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导电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1"/>
          <p:cNvSpPr/>
          <p:nvPr/>
        </p:nvSpPr>
        <p:spPr>
          <a:xfrm>
            <a:off x="847800" y="3073320"/>
            <a:ext cx="7880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隔离开关在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合闸位置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时，触头应接触良好，合闸角度应符合产品技术要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隔离开关在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</a:rPr>
              <a:t>分闸位置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时，触头间的距离或打开角度应符合产品技术要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隔离开关导电回路长期工作温度不宜超过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</a:rPr>
              <a:t>80℃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4"/>
          <p:cNvSpPr/>
          <p:nvPr/>
        </p:nvSpPr>
        <p:spPr>
          <a:xfrm>
            <a:off x="847800" y="701640"/>
            <a:ext cx="26384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操动机构和传动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4197960" y="163440"/>
            <a:ext cx="7477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运行规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6"/>
          <p:cNvSpPr/>
          <p:nvPr/>
        </p:nvSpPr>
        <p:spPr>
          <a:xfrm>
            <a:off x="847800" y="1136520"/>
            <a:ext cx="773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隔离开关与其所配装的接地开关间有可靠的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机械闭锁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，机械闭锁应有足够的强度，电动操作回路的电气联锁功能应满足要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隔离开关电动操动机构操作电压应在额定电压的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85%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～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110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之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隔离开关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辅助接点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应切换可靠，操动机构、测控、保护、监控系统的分合闸位置指示应与实际位置一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电动操动机构的隔离开关手动操作时，应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断开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其控制电源和电机电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接地开关的传动连杆及导电臂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管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上应按规定设置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接地标识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5"/>
          <p:cNvSpPr/>
          <p:nvPr/>
        </p:nvSpPr>
        <p:spPr>
          <a:xfrm>
            <a:off x="4197960" y="163440"/>
            <a:ext cx="7477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运行规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9"/>
          <p:cNvSpPr/>
          <p:nvPr/>
        </p:nvSpPr>
        <p:spPr>
          <a:xfrm>
            <a:off x="774720" y="604800"/>
            <a:ext cx="229248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紧急申请停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0"/>
          <p:cNvSpPr/>
          <p:nvPr/>
        </p:nvSpPr>
        <p:spPr>
          <a:xfrm>
            <a:off x="700200" y="969840"/>
            <a:ext cx="7657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发现下列情况，应立即向值班调控人员申请停运处理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线夹有裂纹、接头处导线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断股散股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严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导电回路严重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发热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达到危急缺陷，且无法倒换运行方式或转移负荷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绝缘子严重破损且伴有放电声或严重电晕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绝缘子发生严重放电、闪络、裂纹现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其他根据现场实际认为应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紧急停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的情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5"/>
          <p:cNvSpPr/>
          <p:nvPr/>
        </p:nvSpPr>
        <p:spPr>
          <a:xfrm>
            <a:off x="4397760" y="141120"/>
            <a:ext cx="4431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巡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880920" y="647640"/>
            <a:ext cx="149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例行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4"/>
          <p:cNvSpPr/>
          <p:nvPr/>
        </p:nvSpPr>
        <p:spPr>
          <a:xfrm>
            <a:off x="880920" y="1041480"/>
            <a:ext cx="7853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合闸状态的隔离开关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</a:rPr>
              <a:t>触头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接触良好，合闸角度符合要求；分闸状态的隔离开关触头间的距离或打开角度符合要求，操动机构的分、合闸指示与本体实际分、合闸位置相符。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分、合闸指示正确，与实际位置相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触头、触指（包括滑动触指）、压紧弹簧无损伤、变色、锈蚀、变形，导电臂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管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无损伤、变形现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导电底座无变形、裂纹，连接螺栓无锈蚀、脱落现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传动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</a:rPr>
              <a:t>连杆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</a:rPr>
              <a:t>拐臂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、万向节无锈蚀、松动、变形现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接地开关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</a:rPr>
              <a:t>平衡弹簧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无锈蚀、断裂现象，平衡锤牢固可靠；接地开关可动部件与其底座之间的软连接完好、牢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操动机构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</a:rPr>
              <a:t>机械指示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与隔离开关实际位置一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5"/>
          <p:cNvSpPr/>
          <p:nvPr/>
        </p:nvSpPr>
        <p:spPr>
          <a:xfrm>
            <a:off x="4397760" y="141120"/>
            <a:ext cx="4431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巡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870120" y="58896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全面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1"/>
          <p:cNvSpPr/>
          <p:nvPr/>
        </p:nvSpPr>
        <p:spPr>
          <a:xfrm>
            <a:off x="870120" y="1039680"/>
            <a:ext cx="791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全面巡视是在例行巡视基础上增加以下巡视项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隔离开关“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</a:rPr>
              <a:t>远方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</a:rPr>
              <a:t>/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</a:rPr>
              <a:t>就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”切换把手、“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</a:rPr>
              <a:t>电动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</a:rPr>
              <a:t>/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</a:rPr>
              <a:t>手动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”切换把手位置正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空气开关、电动机、接触器、继电器、限位开关等元件外观完好。二次元件标识、电缆标牌齐全清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端子排无锈蚀、裂纹、放电痕迹；二次接线无松动、脱落，绝缘无破损、老化现象；备用芯绝缘护套完备；电缆孔洞封堵完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箱门开启灵活，关闭严密，密封条无脱落、老化现象，接地连接线完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五防锁具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无锈蚀、变形现象，锁具芯片无脱落损坏现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5"/>
          <p:cNvSpPr/>
          <p:nvPr/>
        </p:nvSpPr>
        <p:spPr>
          <a:xfrm>
            <a:off x="4397760" y="141120"/>
            <a:ext cx="4431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巡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9"/>
          <p:cNvSpPr/>
          <p:nvPr/>
        </p:nvSpPr>
        <p:spPr>
          <a:xfrm>
            <a:off x="831960" y="143028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特殊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8"/>
          <p:cNvSpPr/>
          <p:nvPr/>
        </p:nvSpPr>
        <p:spPr>
          <a:xfrm>
            <a:off x="689040" y="1154160"/>
            <a:ext cx="77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宋体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宋体"/>
              </a:rPr>
              <a:t>重点检查隔离开关触头、引线、接头、线夹有无发热，绝缘子表面有无放电现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1"/>
          <p:cNvSpPr/>
          <p:nvPr/>
        </p:nvSpPr>
        <p:spPr>
          <a:xfrm>
            <a:off x="831960" y="66024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熄灯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2"/>
          <p:cNvSpPr/>
          <p:nvPr/>
        </p:nvSpPr>
        <p:spPr>
          <a:xfrm>
            <a:off x="907920" y="1898640"/>
            <a:ext cx="791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新安装或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类检修后投运的隔离开关应增加巡视次数，巡视项目按照全面巡视执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异常天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、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</a:rPr>
              <a:t>高峰负荷期间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故障跳闸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后的巡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5"/>
          <p:cNvSpPr/>
          <p:nvPr/>
        </p:nvSpPr>
        <p:spPr>
          <a:xfrm>
            <a:off x="4456440" y="165240"/>
            <a:ext cx="4431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880920" y="542880"/>
            <a:ext cx="369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端子箱、机构箱维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9"/>
          <p:cNvSpPr/>
          <p:nvPr/>
        </p:nvSpPr>
        <p:spPr>
          <a:xfrm>
            <a:off x="949320" y="960480"/>
            <a:ext cx="763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箱体、箱内驱潮加热元件及回路、照明回路、电缆孔洞封堵维护周期及要求参照本通则端子箱部分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880920" y="1704960"/>
            <a:ext cx="2997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红外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1"/>
          <p:cNvSpPr/>
          <p:nvPr/>
        </p:nvSpPr>
        <p:spPr>
          <a:xfrm>
            <a:off x="880920" y="2163600"/>
            <a:ext cx="791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精确测温周期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1000kV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周，省评价中心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月；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330-750kV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月；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220 kV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月；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1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6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kV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：半年；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35kV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及以下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年；新投运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周内（但应超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小时）；必要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配置智能机器人巡检系统的变电站，可由智能机器人完成红外普测和精确测温，由专业人员进行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复核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检测方法及缺陷定性参照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DL/T 664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《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带电设备红外诊断应用规范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Administrator</dc:creator>
  <dc:description/>
  <dc:language>en-US</dc:language>
  <cp:lastModifiedBy>Administrator</cp:lastModifiedBy>
  <dcterms:modified xsi:type="dcterms:W3CDTF">2021-12-09T08:16:16Z</dcterms:modified>
  <cp:revision>65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83A48BAB32245D4A6C98478441FAD95</vt:lpwstr>
  </property>
  <property fmtid="{D5CDD505-2E9C-101B-9397-08002B2CF9AE}" pid="3" name="KSOProductBuildVer">
    <vt:lpwstr>2052-11.1.0.10667</vt:lpwstr>
  </property>
</Properties>
</file>