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1CE-2AD3-4C63-AC24-C2C940F2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831-E376-4C62-BEAF-AF7A578B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DFD-D070-4CE2-8D4B-38689A57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0AA-CBDB-4C1C-B6CC-AF194364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21E-78EC-498C-A284-2DC559A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B8C-C61B-40A5-9D60-4B9C9D1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35D-2DD3-4129-A7A1-E056204E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DBF-FB6E-44BE-9093-C992E5AC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DE4-6CA7-4BF0-9E8A-629E5849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E11-CD87-41B3-B877-D326847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888-E5F9-4DCC-9DBF-928F30C4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A8A-CF3C-4CB1-B4B7-54D5F71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F90968CC-842A-4E3E-B9B0-77437BD74829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5989680" cy="12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断路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压真空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algn="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主讲人：梁卫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9"/>
          <p:cNvSpPr/>
          <p:nvPr/>
        </p:nvSpPr>
        <p:spPr>
          <a:xfrm>
            <a:off x="774720" y="662040"/>
            <a:ext cx="8261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4.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1f6dd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决定真空灭弧室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开断能力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气寿命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是灭弧室内最为重要的元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2220840" y="1974960"/>
            <a:ext cx="521496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"/>
          <p:cNvSpPr/>
          <p:nvPr/>
        </p:nvSpPr>
        <p:spPr>
          <a:xfrm>
            <a:off x="406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真空断路器动作演示" descr=""/>
          <p:cNvPicPr/>
          <p:nvPr/>
        </p:nvPicPr>
        <p:blipFill>
          <a:blip r:embed="rId2"/>
          <a:stretch/>
        </p:blipFill>
        <p:spPr>
          <a:xfrm>
            <a:off x="963720" y="1628640"/>
            <a:ext cx="5398920" cy="303696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4"/>
          <p:cNvSpPr/>
          <p:nvPr/>
        </p:nvSpPr>
        <p:spPr>
          <a:xfrm>
            <a:off x="4588560" y="706320"/>
            <a:ext cx="2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真空断路器的动作过程参考此动画，动画中合闸、分闸时需将触头间产生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与电弧熄灭的过程体现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8" descr=""/>
          <p:cNvPicPr/>
          <p:nvPr/>
        </p:nvPicPr>
        <p:blipFill>
          <a:blip r:embed="rId3"/>
          <a:stretch/>
        </p:blipFill>
        <p:spPr>
          <a:xfrm>
            <a:off x="6494400" y="1628640"/>
            <a:ext cx="2333520" cy="240516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0"/>
          <p:cNvSpPr/>
          <p:nvPr/>
        </p:nvSpPr>
        <p:spPr>
          <a:xfrm>
            <a:off x="6942240" y="414648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圈出的部分是触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5"/>
          <p:cNvSpPr/>
          <p:nvPr/>
        </p:nvSpPr>
        <p:spPr>
          <a:xfrm>
            <a:off x="3921840" y="9036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"/>
          <p:cNvSpPr/>
          <p:nvPr/>
        </p:nvSpPr>
        <p:spPr>
          <a:xfrm>
            <a:off x="5305320" y="782640"/>
            <a:ext cx="36561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just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楷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楷体"/>
              </a:rPr>
              <a:t>断路器故障而延误送电，会造成不应有的损失，因此要能快速准确地判断故障部位，并能够正确处理，尽快恢复正常工作。作为学生，我们也要具备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楷体"/>
              </a:rPr>
              <a:t>严谨的职业素养和高度的社会责任感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楷体"/>
              </a:rPr>
              <a:t>，将来发挥自己在工作岗位的光和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" descr=""/>
          <p:cNvPicPr/>
          <p:nvPr/>
        </p:nvPicPr>
        <p:blipFill>
          <a:blip r:embed="rId2"/>
          <a:stretch/>
        </p:blipFill>
        <p:spPr>
          <a:xfrm>
            <a:off x="752400" y="782640"/>
            <a:ext cx="4429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 flipV="1">
            <a:off x="2395440" y="3050640"/>
            <a:ext cx="1841760" cy="190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237200" y="203184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真空断路器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333520" y="1601640"/>
            <a:ext cx="1851120" cy="9748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359080" y="2333160"/>
            <a:ext cx="1851120" cy="382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1"/>
          <p:cNvSpPr/>
          <p:nvPr/>
        </p:nvSpPr>
        <p:spPr>
          <a:xfrm>
            <a:off x="4237200" y="130824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真空断路器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SubTitle_3"/>
          <p:cNvSpPr/>
          <p:nvPr/>
        </p:nvSpPr>
        <p:spPr>
          <a:xfrm>
            <a:off x="4237200" y="34783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真空断路器动作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4"/>
          <p:cNvSpPr/>
          <p:nvPr/>
        </p:nvSpPr>
        <p:spPr>
          <a:xfrm>
            <a:off x="4119840" y="44280"/>
            <a:ext cx="141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高压真空断路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SubTitle_2"/>
          <p:cNvSpPr/>
          <p:nvPr/>
        </p:nvSpPr>
        <p:spPr>
          <a:xfrm>
            <a:off x="4237200" y="275580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2"/>
          <p:cNvSpPr/>
          <p:nvPr/>
        </p:nvSpPr>
        <p:spPr>
          <a:xfrm>
            <a:off x="2502000" y="3402000"/>
            <a:ext cx="1708200" cy="3333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4"/>
          <p:cNvSpPr/>
          <p:nvPr/>
        </p:nvSpPr>
        <p:spPr>
          <a:xfrm>
            <a:off x="847800" y="701640"/>
            <a:ext cx="555300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ts val="2398"/>
              </a:lnSpc>
              <a:spcBef>
                <a:spcPts val="374"/>
              </a:spcBef>
              <a:spcAft>
                <a:spcPts val="751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以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真空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作为灭弧介质和绝缘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优点：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体积小、重量轻、嗓音小、无可燃物、维护工作量少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缺点：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开断小电流时更易产生截流和引起过电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用途：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发电厂、变电所和高压用户变电所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3kV~10kV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电压等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内容占位符 3" descr=""/>
          <p:cNvPicPr/>
          <p:nvPr/>
        </p:nvPicPr>
        <p:blipFill>
          <a:blip r:embed="rId2"/>
          <a:stretch/>
        </p:blipFill>
        <p:spPr>
          <a:xfrm>
            <a:off x="6400800" y="887400"/>
            <a:ext cx="2641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847800" y="701640"/>
            <a:ext cx="76770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spcBef>
                <a:spcPts val="374"/>
              </a:spcBef>
              <a:spcAft>
                <a:spcPts val="751"/>
              </a:spcAft>
              <a:buClr>
                <a:srgbClr val="1f6dd1"/>
              </a:buClr>
              <a:buFont typeface="Wingdings" charset="2"/>
              <a:buChar char="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按真空灭弧室的布置方式可分为落地式和悬挂式两种基本形式，以及这两种形式相结合的综合式和接地箱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05040" y="4405320"/>
            <a:ext cx="16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2169d3"/>
                </a:solidFill>
                <a:latin typeface="微软雅黑"/>
              </a:rPr>
              <a:t>落地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995400" y="1552680"/>
            <a:ext cx="293364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4927680" y="1754280"/>
            <a:ext cx="3090960" cy="23414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4"/>
          <p:cNvSpPr/>
          <p:nvPr/>
        </p:nvSpPr>
        <p:spPr>
          <a:xfrm>
            <a:off x="5938920" y="4405320"/>
            <a:ext cx="16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2169d3"/>
                </a:solidFill>
                <a:latin typeface="微软雅黑"/>
              </a:rPr>
              <a:t>悬挂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880920" y="620640"/>
            <a:ext cx="753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真空断路器的结构参考此链接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https://haokan.baidu.com/v?pd=wisenatural&amp;vid=6737617822151942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内容占位符 2"/>
          <p:cNvSpPr/>
          <p:nvPr/>
        </p:nvSpPr>
        <p:spPr>
          <a:xfrm>
            <a:off x="774720" y="882720"/>
            <a:ext cx="6172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/>
          </a:bodyPr>
          <a:p>
            <a:pPr marL="171360" indent="-171360" algn="just">
              <a:lnSpc>
                <a:spcPct val="13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核心元件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真空灭弧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806480" y="1517760"/>
            <a:ext cx="612792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773280" y="473040"/>
            <a:ext cx="810864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1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外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1f6dd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楷体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楷体"/>
              </a:rPr>
              <a:t>容纳和支持真空灭弧室内的种种零件；当动、静触头在断开位置时起                  绝缘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2046240" y="1884240"/>
            <a:ext cx="5560920" cy="23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774720" y="662040"/>
            <a:ext cx="786780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2.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波纹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1f6dd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楷体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动触头运动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真空密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，其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侧壁的允许伸缩量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决定了灭弧室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触头最大开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；其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疲劳寿命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决定了真空灭弧室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机械寿命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（几万次以上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4" descr=""/>
          <p:cNvPicPr/>
          <p:nvPr/>
        </p:nvPicPr>
        <p:blipFill>
          <a:blip r:embed="rId2"/>
          <a:stretch/>
        </p:blipFill>
        <p:spPr>
          <a:xfrm>
            <a:off x="2252520" y="2604960"/>
            <a:ext cx="51516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5"/>
          <p:cNvSpPr/>
          <p:nvPr/>
        </p:nvSpPr>
        <p:spPr>
          <a:xfrm>
            <a:off x="3960720" y="95400"/>
            <a:ext cx="15098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真空断路器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774720" y="662040"/>
            <a:ext cx="786780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3.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屏蔽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楷体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挡住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弧生成物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的去路，防止其污染绝缘外壳引起绝缘强度降低和绝缘破坏，有利于熄弧后弧隙介质强度的迅速恢复；使灭弧室内部电压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均匀分布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；使波纹管免遭电弧生成物的烧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"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2"/>
          <a:stretch/>
        </p:blipFill>
        <p:spPr>
          <a:xfrm>
            <a:off x="2214720" y="2535120"/>
            <a:ext cx="52275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4:14Z</dcterms:modified>
  <cp:revision>2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