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353-29F2-4173-B445-A1A47158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E8B-7973-4C5F-841F-866BD328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910-3C8E-4A1E-BEF3-93CC7D69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B9C-5D1F-4202-9E1A-011CDDFE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AA6-A2F3-4702-8A90-D58083EB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E22-B1F4-41BA-8164-6866DEFE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ADB-C5FC-4AAC-8B4A-056E680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75A-71B4-4C3D-B510-342D282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88F-A18C-44B4-B7DE-B52ECAAF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53B-372E-4620-8369-1F8C1AE3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A00-57C6-4CFB-B2D1-37E51C1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E5E-E029-4469-B1D4-8EBA60C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2075383-12C8-4BB8-A612-9C0C3C98DB7F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63864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隔离开关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高压隔离开关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：梁卫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70840" y="34596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774720" y="673200"/>
            <a:ext cx="822960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户内式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特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≤35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闸刀式触头、线接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常用型号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8-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8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10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19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22-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2-3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N19-3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系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5689440" y="2274840"/>
            <a:ext cx="2543400" cy="2615400"/>
            <a:chOff x="5689440" y="2274840"/>
            <a:chExt cx="2543400" cy="2615400"/>
          </a:xfrm>
        </p:grpSpPr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5689440" y="2274840"/>
              <a:ext cx="2543400" cy="224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4"/>
            <p:cNvSpPr/>
            <p:nvPr/>
          </p:nvSpPr>
          <p:spPr>
            <a:xfrm>
              <a:off x="5988240" y="45219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</a:rPr>
                <a:t>GN5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1044720" y="2389320"/>
            <a:ext cx="4089240" cy="2500920"/>
            <a:chOff x="1044720" y="2389320"/>
            <a:chExt cx="4089240" cy="2500920"/>
          </a:xfrm>
        </p:grpSpPr>
        <p:pic>
          <p:nvPicPr>
            <p:cNvPr id="154" name="图片 7" descr=""/>
            <p:cNvPicPr/>
            <p:nvPr/>
          </p:nvPicPr>
          <p:blipFill>
            <a:blip r:embed="rId3"/>
            <a:stretch/>
          </p:blipFill>
          <p:spPr>
            <a:xfrm>
              <a:off x="1044720" y="2389320"/>
              <a:ext cx="4089240" cy="21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9"/>
            <p:cNvSpPr/>
            <p:nvPr/>
          </p:nvSpPr>
          <p:spPr>
            <a:xfrm>
              <a:off x="2045880" y="45219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</a:rPr>
                <a:t>GN8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57760" y="1822320"/>
            <a:ext cx="4386240" cy="2184480"/>
          </a:xfrm>
          <a:prstGeom prst="rect">
            <a:avLst/>
          </a:prstGeom>
          <a:ln w="0">
            <a:noFill/>
          </a:ln>
        </p:spPr>
      </p:pic>
      <p:cxnSp>
        <p:nvCxnSpPr>
          <p:cNvPr id="161" name="直接箭头连接符 36"/>
          <p:cNvCxnSpPr/>
          <p:nvPr/>
        </p:nvCxnSpPr>
        <p:spPr>
          <a:xfrm flipH="1">
            <a:off x="7535520" y="2000160"/>
            <a:ext cx="443520" cy="442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2" name="直接箭头连接符 39"/>
          <p:cNvCxnSpPr/>
          <p:nvPr/>
        </p:nvCxnSpPr>
        <p:spPr>
          <a:xfrm flipH="1">
            <a:off x="7616520" y="2441520"/>
            <a:ext cx="10080" cy="603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3" name="直接箭头连接符 41"/>
          <p:cNvCxnSpPr/>
          <p:nvPr/>
        </p:nvCxnSpPr>
        <p:spPr>
          <a:xfrm>
            <a:off x="7616880" y="3044520"/>
            <a:ext cx="442080" cy="462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4" name="直接箭头连接符 49"/>
          <p:cNvCxnSpPr/>
          <p:nvPr/>
        </p:nvCxnSpPr>
        <p:spPr>
          <a:xfrm flipV="1">
            <a:off x="8057880" y="2672640"/>
            <a:ext cx="1080" cy="834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直接连接符 53"/>
          <p:cNvSpPr/>
          <p:nvPr/>
        </p:nvSpPr>
        <p:spPr>
          <a:xfrm flipH="1" flipV="1">
            <a:off x="7535520" y="1386000"/>
            <a:ext cx="222120" cy="684000"/>
          </a:xfrm>
          <a:prstGeom prst="line">
            <a:avLst/>
          </a:prstGeom>
          <a:ln w="381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4"/>
          <p:cNvSpPr/>
          <p:nvPr/>
        </p:nvSpPr>
        <p:spPr>
          <a:xfrm>
            <a:off x="7018200" y="824040"/>
            <a:ext cx="11970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导电回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58"/>
          <p:cNvSpPr/>
          <p:nvPr/>
        </p:nvSpPr>
        <p:spPr>
          <a:xfrm>
            <a:off x="7837560" y="2441520"/>
            <a:ext cx="0" cy="647640"/>
          </a:xfrm>
          <a:prstGeom prst="line">
            <a:avLst/>
          </a:prstGeom>
          <a:ln w="5724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60"/>
          <p:cNvSpPr/>
          <p:nvPr/>
        </p:nvSpPr>
        <p:spPr>
          <a:xfrm flipH="1">
            <a:off x="7625880" y="3089160"/>
            <a:ext cx="211320" cy="185760"/>
          </a:xfrm>
          <a:prstGeom prst="line">
            <a:avLst/>
          </a:prstGeom>
          <a:ln w="57240">
            <a:solidFill>
              <a:srgbClr val="609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62"/>
          <p:cNvSpPr/>
          <p:nvPr/>
        </p:nvSpPr>
        <p:spPr>
          <a:xfrm flipH="1" flipV="1">
            <a:off x="5265360" y="3182760"/>
            <a:ext cx="2351160" cy="92160"/>
          </a:xfrm>
          <a:prstGeom prst="line">
            <a:avLst/>
          </a:prstGeom>
          <a:ln w="5724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4"/>
          <p:cNvSpPr/>
          <p:nvPr/>
        </p:nvSpPr>
        <p:spPr>
          <a:xfrm>
            <a:off x="6950160" y="2441520"/>
            <a:ext cx="0" cy="787320"/>
          </a:xfrm>
          <a:prstGeom prst="line">
            <a:avLst/>
          </a:prstGeom>
          <a:ln w="5724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76"/>
          <p:cNvSpPr/>
          <p:nvPr/>
        </p:nvSpPr>
        <p:spPr>
          <a:xfrm flipV="1">
            <a:off x="5938920" y="2441160"/>
            <a:ext cx="0" cy="787320"/>
          </a:xfrm>
          <a:prstGeom prst="line">
            <a:avLst/>
          </a:prstGeom>
          <a:ln w="5724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78"/>
          <p:cNvSpPr/>
          <p:nvPr/>
        </p:nvSpPr>
        <p:spPr>
          <a:xfrm flipH="1" flipV="1">
            <a:off x="5365800" y="1557360"/>
            <a:ext cx="503280" cy="1116000"/>
          </a:xfrm>
          <a:prstGeom prst="line">
            <a:avLst/>
          </a:prstGeom>
          <a:ln w="38160">
            <a:solidFill>
              <a:srgbClr val="32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9"/>
          <p:cNvSpPr/>
          <p:nvPr/>
        </p:nvSpPr>
        <p:spPr>
          <a:xfrm>
            <a:off x="4767120" y="824040"/>
            <a:ext cx="11970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传动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0"/>
          <p:cNvSpPr/>
          <p:nvPr/>
        </p:nvSpPr>
        <p:spPr>
          <a:xfrm>
            <a:off x="774720" y="744480"/>
            <a:ext cx="3727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户内式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结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三相共装在同一个底座上，操动机构通过连杆操动转轴完成分合闸操作。导电回路主要由闸刀（动触头）、静触头及接线端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0"/>
          <p:cNvSpPr/>
          <p:nvPr/>
        </p:nvSpPr>
        <p:spPr>
          <a:xfrm>
            <a:off x="774720" y="663480"/>
            <a:ext cx="37274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户外式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特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＞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5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结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静触头被独立安装在架空母线上，可动闸刀安装在瓷柱顶部，由操动机构通过传动机构带动，像剪刀一样向上运动，夹住装在母线上的静触头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合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；或向下运动，释放装在母线上的静触头，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分闸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4381560" y="892080"/>
            <a:ext cx="2705040" cy="3296880"/>
            <a:chOff x="4381560" y="892080"/>
            <a:chExt cx="2705040" cy="3296880"/>
          </a:xfrm>
        </p:grpSpPr>
        <p:pic>
          <p:nvPicPr>
            <p:cNvPr id="181" name="图片 5" descr=""/>
            <p:cNvPicPr/>
            <p:nvPr/>
          </p:nvPicPr>
          <p:blipFill>
            <a:blip r:embed="rId2"/>
            <a:stretch/>
          </p:blipFill>
          <p:spPr>
            <a:xfrm>
              <a:off x="4502160" y="892080"/>
              <a:ext cx="2037960" cy="28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6"/>
            <p:cNvSpPr/>
            <p:nvPr/>
          </p:nvSpPr>
          <p:spPr>
            <a:xfrm>
              <a:off x="4381560" y="3820680"/>
              <a:ext cx="270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单柱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7197120" y="13572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有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0"/>
          <p:cNvSpPr/>
          <p:nvPr/>
        </p:nvSpPr>
        <p:spPr>
          <a:xfrm>
            <a:off x="774720" y="663480"/>
            <a:ext cx="37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户外式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结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它的转臂也即主闸刀固定在绝缘瓷柱顶部的活动出线座上。分闸时，主闸刀传动轴带动两侧的绝缘瓷柱转动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90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使闸刀在水平面上转动实现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4322880" y="892080"/>
            <a:ext cx="2625480" cy="3135960"/>
            <a:chOff x="4322880" y="892080"/>
            <a:chExt cx="2625480" cy="3135960"/>
          </a:xfrm>
        </p:grpSpPr>
        <p:pic>
          <p:nvPicPr>
            <p:cNvPr id="190" name="图片 4" descr=""/>
            <p:cNvPicPr/>
            <p:nvPr/>
          </p:nvPicPr>
          <p:blipFill>
            <a:blip r:embed="rId2"/>
            <a:stretch/>
          </p:blipFill>
          <p:spPr>
            <a:xfrm>
              <a:off x="4322880" y="892080"/>
              <a:ext cx="2625480" cy="26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Box 8"/>
            <p:cNvSpPr/>
            <p:nvPr/>
          </p:nvSpPr>
          <p:spPr>
            <a:xfrm>
              <a:off x="4619880" y="3659760"/>
              <a:ext cx="19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双柱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3"/>
          <p:cNvSpPr/>
          <p:nvPr/>
        </p:nvSpPr>
        <p:spPr>
          <a:xfrm>
            <a:off x="7094520" y="1627200"/>
            <a:ext cx="126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有动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内容占位符 2"/>
          <p:cNvSpPr/>
          <p:nvPr/>
        </p:nvSpPr>
        <p:spPr>
          <a:xfrm>
            <a:off x="-166680" y="-779400"/>
            <a:ext cx="385776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0"/>
          <p:cNvSpPr/>
          <p:nvPr/>
        </p:nvSpPr>
        <p:spPr>
          <a:xfrm>
            <a:off x="774720" y="663480"/>
            <a:ext cx="37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户外式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结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两边的绝缘支柱固定在支架上，中间的绝缘支柱安装在轴上。分闸时，中间的绝缘支柱带动转臂闸刀转动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60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使闸刀在水平面上转动而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4829040" y="816120"/>
            <a:ext cx="2508480" cy="3186360"/>
            <a:chOff x="4829040" y="816120"/>
            <a:chExt cx="2508480" cy="3186360"/>
          </a:xfrm>
        </p:grpSpPr>
        <p:pic>
          <p:nvPicPr>
            <p:cNvPr id="199" name="图片 84" descr=""/>
            <p:cNvPicPr/>
            <p:nvPr/>
          </p:nvPicPr>
          <p:blipFill>
            <a:blip r:embed="rId2"/>
            <a:stretch/>
          </p:blipFill>
          <p:spPr>
            <a:xfrm>
              <a:off x="4829040" y="816120"/>
              <a:ext cx="2426760" cy="27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1"/>
            <p:cNvSpPr/>
            <p:nvPr/>
          </p:nvSpPr>
          <p:spPr>
            <a:xfrm>
              <a:off x="5530680" y="3634200"/>
              <a:ext cx="18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</a:rPr>
                <a:t>三柱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4"/>
          <p:cNvSpPr/>
          <p:nvPr/>
        </p:nvSpPr>
        <p:spPr>
          <a:xfrm>
            <a:off x="7567560" y="19558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有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5"/>
          <p:cNvSpPr/>
          <p:nvPr/>
        </p:nvSpPr>
        <p:spPr>
          <a:xfrm>
            <a:off x="4680" y="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204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2842200" y="32544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>
            <a:off x="2668680" y="3025800"/>
            <a:ext cx="1784160" cy="763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452840" y="220680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隔离开关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387520" y="1806480"/>
            <a:ext cx="2052720" cy="6717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585880" y="2508120"/>
            <a:ext cx="1841760" cy="2620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1"/>
          <p:cNvSpPr/>
          <p:nvPr/>
        </p:nvSpPr>
        <p:spPr>
          <a:xfrm>
            <a:off x="4452840" y="1525680"/>
            <a:ext cx="35625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隔离开关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SubTitle_3"/>
          <p:cNvSpPr/>
          <p:nvPr/>
        </p:nvSpPr>
        <p:spPr>
          <a:xfrm>
            <a:off x="4487760" y="3484440"/>
            <a:ext cx="3560760" cy="4431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4"/>
          <p:cNvSpPr/>
          <p:nvPr/>
        </p:nvSpPr>
        <p:spPr>
          <a:xfrm>
            <a:off x="4099680" y="77760"/>
            <a:ext cx="160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高压隔离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2"/>
          <p:cNvSpPr/>
          <p:nvPr/>
        </p:nvSpPr>
        <p:spPr>
          <a:xfrm>
            <a:off x="2505240" y="3316320"/>
            <a:ext cx="1922400" cy="4698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3"/>
          <p:cNvSpPr/>
          <p:nvPr/>
        </p:nvSpPr>
        <p:spPr>
          <a:xfrm>
            <a:off x="4492800" y="2865600"/>
            <a:ext cx="3560760" cy="5108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隔离开关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SubTitle_3"/>
          <p:cNvSpPr/>
          <p:nvPr/>
        </p:nvSpPr>
        <p:spPr>
          <a:xfrm>
            <a:off x="4492800" y="3524400"/>
            <a:ext cx="3560760" cy="47448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隔离开关的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944640" y="662040"/>
            <a:ext cx="75024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6dd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隔离开关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又称隔离刀闸，是一种高压开关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6dd1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特点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没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专门的灭弧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不能开断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负荷电流和短路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与断路器配合使用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只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在断路器断开时才能进行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84" descr=""/>
          <p:cNvPicPr/>
          <p:nvPr/>
        </p:nvPicPr>
        <p:blipFill>
          <a:blip r:embed="rId2"/>
          <a:stretch/>
        </p:blipFill>
        <p:spPr>
          <a:xfrm>
            <a:off x="2428920" y="2629080"/>
            <a:ext cx="31478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749160" y="662040"/>
            <a:ext cx="776160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隔离电源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隔离开关断开时，有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明显可见的断口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必要时应附设接地刀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倒闸操作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运行、备用、检修时用来配合断路器协同完成倒闸操作，如倒母线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分、合小电流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隔离开关没有灭弧装置，因此仅能用来分、合只有电压没有负荷电流的电路。否则在隔离开关的触头间形成强大电弧，危及设备和人身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安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造成重大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事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一般只能在断路器已将电路断开的情况下，才能接通或断开隔离开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严禁带负荷拉、合隔离开关。但隔离开关也具有一定的分、合小电流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5"/>
          <p:cNvSpPr/>
          <p:nvPr/>
        </p:nvSpPr>
        <p:spPr>
          <a:xfrm>
            <a:off x="406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74720" y="417600"/>
            <a:ext cx="80834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8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隔离开关型号、规格一般由文字符号和数字表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一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产品字母代号，隔离开关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二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安装场所代号，户内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户外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三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设计序列顺序号，用数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表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四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额定电压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五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其他标志，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表示改进型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表示带接地刀闸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第六单元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额定电流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604960" y="1104840"/>
            <a:ext cx="27702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74720" y="7398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安装地点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1182600" y="1233360"/>
            <a:ext cx="3281400" cy="2424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5124600" y="1109520"/>
            <a:ext cx="2752560" cy="2538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243216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户内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584028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户外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74720" y="73980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产品组装级数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25108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极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6573960" y="364824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三极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1144440" y="1235160"/>
            <a:ext cx="3237120" cy="228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4929120" y="1076400"/>
            <a:ext cx="35528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74720" y="73980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有无接地刀闸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004840" y="360828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带接地刀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5883120" y="3608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不带接地刀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138320" y="1227240"/>
            <a:ext cx="3171600" cy="2206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5248440" y="1227240"/>
            <a:ext cx="294300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隔离开关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774720" y="73980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4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绝缘支柱的数目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1473120" y="348768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单柱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3994200" y="34876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双柱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774720" y="1219320"/>
            <a:ext cx="2270160" cy="2217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3295800" y="1219320"/>
            <a:ext cx="2371680" cy="2220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848200" y="1219320"/>
            <a:ext cx="2462400" cy="2217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6502320" y="34876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三柱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5:50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