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268-4585-409F-9F62-82B38C66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88F-5E41-4941-A511-FACE0B6F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A8F-7871-4901-B008-8740F034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2E67-931D-4A5F-9224-C9F9891F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40E-0EB1-4926-8971-C576C3A7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5CE-800B-49A5-8DF5-70677310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0E60-1991-4F0A-8ADC-0859B661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7C32-B0A0-4375-846F-EE2CBC95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C15-0C73-4017-8887-16D2E376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5B7D-04E9-499E-9C19-CEB4CFFB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7B7-D6D3-488B-86B2-32004682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EA1-ACBE-4459-BA6C-4DA6CEF6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224E07C-3843-4C4E-9058-64320755E865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9360" y="3648240"/>
            <a:ext cx="9162720" cy="419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"/>
          <p:cNvSpPr/>
          <p:nvPr/>
        </p:nvSpPr>
        <p:spPr>
          <a:xfrm>
            <a:off x="1577880" y="3005280"/>
            <a:ext cx="598968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压断路器的运行与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压断路器的运行与维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                 </a:t>
            </a: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人：梁卫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6000" y="1136520"/>
            <a:ext cx="1692000" cy="1602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7"/>
          <p:cNvSpPr/>
          <p:nvPr/>
        </p:nvSpPr>
        <p:spPr>
          <a:xfrm>
            <a:off x="2679480" y="326880"/>
            <a:ext cx="3785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-(width-0)*(1-$)^6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-(width-0)*(1-$)^6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H_SubTitle_2"/>
          <p:cNvSpPr/>
          <p:nvPr/>
        </p:nvSpPr>
        <p:spPr>
          <a:xfrm>
            <a:off x="4533840" y="2386080"/>
            <a:ext cx="35607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巡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Other_1"/>
          <p:cNvSpPr/>
          <p:nvPr/>
        </p:nvSpPr>
        <p:spPr>
          <a:xfrm flipV="1">
            <a:off x="2944800" y="1797120"/>
            <a:ext cx="1587600" cy="4348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2"/>
          <p:cNvSpPr/>
          <p:nvPr/>
        </p:nvSpPr>
        <p:spPr>
          <a:xfrm flipV="1">
            <a:off x="3048120" y="2674440"/>
            <a:ext cx="1484280" cy="4140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SubTitle_1"/>
          <p:cNvSpPr/>
          <p:nvPr/>
        </p:nvSpPr>
        <p:spPr>
          <a:xfrm>
            <a:off x="4532400" y="1536840"/>
            <a:ext cx="356220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运行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Other_5"/>
          <p:cNvSpPr/>
          <p:nvPr/>
        </p:nvSpPr>
        <p:spPr>
          <a:xfrm>
            <a:off x="1092240" y="1685880"/>
            <a:ext cx="1955880" cy="1954080"/>
          </a:xfrm>
          <a:prstGeom prst="ellipse">
            <a:avLst/>
          </a:pr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Title_1"/>
          <p:cNvSpPr/>
          <p:nvPr/>
        </p:nvSpPr>
        <p:spPr>
          <a:xfrm>
            <a:off x="1311120" y="1905120"/>
            <a:ext cx="1519560" cy="1519200"/>
          </a:xfrm>
          <a:prstGeom prst="ellipse">
            <a:avLst/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4"/>
          <p:cNvSpPr/>
          <p:nvPr/>
        </p:nvSpPr>
        <p:spPr>
          <a:xfrm>
            <a:off x="3497040" y="123840"/>
            <a:ext cx="2149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高压断路器的运行与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MH_SubTitle_2"/>
          <p:cNvSpPr/>
          <p:nvPr/>
        </p:nvSpPr>
        <p:spPr>
          <a:xfrm>
            <a:off x="4533840" y="323532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Other_2"/>
          <p:cNvSpPr/>
          <p:nvPr/>
        </p:nvSpPr>
        <p:spPr>
          <a:xfrm>
            <a:off x="2944800" y="3133800"/>
            <a:ext cx="1587600" cy="35712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4"/>
          <p:cNvSpPr/>
          <p:nvPr/>
        </p:nvSpPr>
        <p:spPr>
          <a:xfrm>
            <a:off x="847800" y="701640"/>
            <a:ext cx="13208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一般规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"/>
          <p:cNvSpPr/>
          <p:nvPr/>
        </p:nvSpPr>
        <p:spPr>
          <a:xfrm>
            <a:off x="4197960" y="136440"/>
            <a:ext cx="7477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运行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"/>
          <p:cNvSpPr/>
          <p:nvPr/>
        </p:nvSpPr>
        <p:spPr>
          <a:xfrm>
            <a:off x="847800" y="1184400"/>
            <a:ext cx="7657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断路器允许开断故障次数应写入变电站现场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专用规程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断路器应具备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远方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和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就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操作方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断路器应有完整的铭牌、规范的运行编号和名称，相色标志明显，其金属支架、底座应可靠接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0"/>
          <p:cNvSpPr/>
          <p:nvPr/>
        </p:nvSpPr>
        <p:spPr>
          <a:xfrm>
            <a:off x="847800" y="2637000"/>
            <a:ext cx="20383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本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1"/>
          <p:cNvSpPr/>
          <p:nvPr/>
        </p:nvSpPr>
        <p:spPr>
          <a:xfrm>
            <a:off x="847800" y="3073320"/>
            <a:ext cx="788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压力异常导致断路器分、合闸闭锁时，不准擅自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解除闭锁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进行操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定期检查断路器金属法兰与瓷件的胶装部位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防水密封胶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的完好性，必要时重新复涂防水密封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4"/>
          <p:cNvSpPr/>
          <p:nvPr/>
        </p:nvSpPr>
        <p:spPr>
          <a:xfrm>
            <a:off x="847800" y="701640"/>
            <a:ext cx="132084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操动机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4197960" y="163440"/>
            <a:ext cx="7477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运行规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6"/>
          <p:cNvSpPr/>
          <p:nvPr/>
        </p:nvSpPr>
        <p:spPr>
          <a:xfrm>
            <a:off x="847800" y="1136520"/>
            <a:ext cx="773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液压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气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操动机构的油、气系统应无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渗漏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，油位、压力符合厂家规定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弹簧操动机构手动储能与电动储能之间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联锁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应完备，手动储能时必须使用专用工具，手动储能前，应断开储能电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9"/>
          <p:cNvSpPr/>
          <p:nvPr/>
        </p:nvSpPr>
        <p:spPr>
          <a:xfrm>
            <a:off x="847800" y="2293920"/>
            <a:ext cx="22939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紧急申请停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0"/>
          <p:cNvSpPr/>
          <p:nvPr/>
        </p:nvSpPr>
        <p:spPr>
          <a:xfrm>
            <a:off x="774720" y="2658960"/>
            <a:ext cx="7656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当有导电回路部件有严重过热或打火</a:t>
            </a:r>
            <a:r>
              <a:rPr b="0" lang="zh-CN" sz="1600" spc="-1" strike="noStrike">
                <a:solidFill>
                  <a:srgbClr val="28156e"/>
                </a:solidFill>
                <a:latin typeface="微软雅黑"/>
                <a:ea typeface="Times New Roman"/>
              </a:rPr>
              <a:t>、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SF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断路器严重漏气、真空断路器的灭弧室有裂纹或放电声、落地罐式断路器防爆膜变形或损坏、液压、气动操动机构失压等情况之一，运维人员应立即汇报调控人员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申请设备停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，停运前应远离设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当有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线路有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带电检修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断路器开断故障电流的次数达到规定次数、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断路器铭牌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标称容量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接近或小于安装地点的母线短路容量、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全电缆线路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等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下列情况之一，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断路器跳闸后不得试送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5"/>
          <p:cNvSpPr/>
          <p:nvPr/>
        </p:nvSpPr>
        <p:spPr>
          <a:xfrm>
            <a:off x="4397760" y="141120"/>
            <a:ext cx="443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880920" y="647640"/>
            <a:ext cx="149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例行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"/>
          <p:cNvSpPr/>
          <p:nvPr/>
        </p:nvSpPr>
        <p:spPr>
          <a:xfrm>
            <a:off x="880920" y="1041480"/>
            <a:ext cx="78534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本体外观清洁、无异物、无异常声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分、合闸指示正确，与实际位置相符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传动部分无明显变形、锈蚀，轴销齐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操动机构各项指标正常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接地引下线标志无脱落，接地引下线可见部分连接完整可靠，接地螺栓紧固，无放电痕迹，无锈蚀、变形现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9"/>
          <p:cNvSpPr/>
          <p:nvPr/>
        </p:nvSpPr>
        <p:spPr>
          <a:xfrm>
            <a:off x="880920" y="3246480"/>
            <a:ext cx="149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全面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1"/>
          <p:cNvSpPr/>
          <p:nvPr/>
        </p:nvSpPr>
        <p:spPr>
          <a:xfrm>
            <a:off x="880920" y="3697200"/>
            <a:ext cx="79185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全面巡视是在例行巡视基础上增加以下巡视项目，并抄录断路器油位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S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气体压力、液压（气动）操动机构压力、断路器动作次数、操动机构电机动作次数等运行数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5"/>
          <p:cNvSpPr/>
          <p:nvPr/>
        </p:nvSpPr>
        <p:spPr>
          <a:xfrm>
            <a:off x="4397760" y="141120"/>
            <a:ext cx="443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巡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831960" y="143028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特殊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8"/>
          <p:cNvSpPr/>
          <p:nvPr/>
        </p:nvSpPr>
        <p:spPr>
          <a:xfrm>
            <a:off x="831960" y="1136520"/>
            <a:ext cx="776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宋体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宋体"/>
              </a:rPr>
              <a:t>重点检查引线、接头、线夹有无发热，外绝缘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宋体"/>
              </a:rPr>
              <a:t>有无放电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宋体"/>
              </a:rPr>
              <a:t>现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1"/>
          <p:cNvSpPr/>
          <p:nvPr/>
        </p:nvSpPr>
        <p:spPr>
          <a:xfrm>
            <a:off x="831960" y="66024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熄灯巡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2"/>
          <p:cNvSpPr/>
          <p:nvPr/>
        </p:nvSpPr>
        <p:spPr>
          <a:xfrm>
            <a:off x="907920" y="1898640"/>
            <a:ext cx="791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新安装或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类检修后投运的断路器、长期停用的断路器投入运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7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小时内，应增加巡视次数（不少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次），巡视项目按照全面巡视执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异常天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、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</a:rPr>
              <a:t>高峰负荷期间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故障跳闸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后的巡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5"/>
          <p:cNvSpPr/>
          <p:nvPr/>
        </p:nvSpPr>
        <p:spPr>
          <a:xfrm>
            <a:off x="4221000" y="127080"/>
            <a:ext cx="443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880920" y="542880"/>
            <a:ext cx="369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断路器本体（地电位）锈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/>
          <p:cNvSpPr/>
          <p:nvPr/>
        </p:nvSpPr>
        <p:spPr>
          <a:xfrm>
            <a:off x="880920" y="2139840"/>
            <a:ext cx="2997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指示灯更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"/>
          <p:cNvSpPr/>
          <p:nvPr/>
        </p:nvSpPr>
        <p:spPr>
          <a:xfrm>
            <a:off x="949320" y="960480"/>
            <a:ext cx="763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对断路器本体（地电位）的初发性锈蚀，用钢丝刷、砂布、刨刀、棉纱将锈蚀部位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理干净，使表面露出明显的金属光泽，无锈斑、起皮现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处理时应保证足够的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安全距离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880920" y="2571840"/>
            <a:ext cx="76392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发现指示灯不能正确反映设备正常状态时，应予以检查，确定为指示灯故障时应选用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相同规格型号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的指示灯更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更换完成后，应检查指示灯指示与设备实际状态相符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5"/>
          <p:cNvSpPr/>
          <p:nvPr/>
        </p:nvSpPr>
        <p:spPr>
          <a:xfrm>
            <a:off x="4221000" y="127080"/>
            <a:ext cx="4431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维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"/>
          <p:cNvSpPr/>
          <p:nvPr/>
        </p:nvSpPr>
        <p:spPr>
          <a:xfrm>
            <a:off x="880920" y="542880"/>
            <a:ext cx="369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储能空开更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/>
          <p:cNvSpPr/>
          <p:nvPr/>
        </p:nvSpPr>
        <p:spPr>
          <a:xfrm>
            <a:off x="880920" y="1704960"/>
            <a:ext cx="2997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1f6dd1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红外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"/>
          <p:cNvSpPr/>
          <p:nvPr/>
        </p:nvSpPr>
        <p:spPr>
          <a:xfrm>
            <a:off x="880920" y="917640"/>
            <a:ext cx="785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发现储能空开故障时，应选用相同规格型号的空开进行更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更换后检查相序正确，确认无误后方可投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6"/>
          <p:cNvSpPr/>
          <p:nvPr/>
        </p:nvSpPr>
        <p:spPr>
          <a:xfrm>
            <a:off x="880920" y="2163600"/>
            <a:ext cx="7913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精确测温周期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1000kV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周，省评价中心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月；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330-750kV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月；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220 kV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月；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11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6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kV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：半年；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35kV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及以下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年；新投运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周内（但应超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2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小时）；必要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配置智能机器人巡检系统的变电站，可由智能机器人完成红外普测和精确测温，由专业人员进行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  <a:ea typeface="Times New Roman"/>
              </a:rPr>
              <a:t>复核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139" name="矩形 14"/>
          <p:cNvSpPr/>
          <p:nvPr/>
        </p:nvSpPr>
        <p:spPr>
          <a:xfrm>
            <a:off x="-9360" y="3432240"/>
            <a:ext cx="9162720" cy="635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ject 2"/>
          <p:cNvSpPr/>
          <p:nvPr/>
        </p:nvSpPr>
        <p:spPr>
          <a:xfrm>
            <a:off x="2705040" y="3489480"/>
            <a:ext cx="4219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7"/>
          <p:cNvSpPr/>
          <p:nvPr/>
        </p:nvSpPr>
        <p:spPr>
          <a:xfrm>
            <a:off x="2670840" y="379440"/>
            <a:ext cx="3785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1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1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istrator</dc:creator>
  <dc:description/>
  <dc:language>en-US</dc:language>
  <cp:lastModifiedBy>Administrator</cp:lastModifiedBy>
  <dcterms:modified xsi:type="dcterms:W3CDTF">2021-12-09T08:15:05Z</dcterms:modified>
  <cp:revision>6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83A48BAB32245D4A6C98478441FAD95</vt:lpwstr>
  </property>
  <property fmtid="{D5CDD505-2E9C-101B-9397-08002B2CF9AE}" pid="3" name="KSOProductBuildVer">
    <vt:lpwstr>2052-11.1.0.10667</vt:lpwstr>
  </property>
</Properties>
</file>