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204-5C7F-40D9-8C0D-9DAB9A12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C62-1AF0-45C7-86A5-BB5CE791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955-B92C-4DC1-A1DD-7CCF8DEA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3C6-D45B-4149-A123-FDBF952C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1D1-32E4-4896-AFDA-4CB3FF1B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8FC-BFBE-449D-A9BB-0B1389B9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C7B-8863-4F9C-8810-2B1473B4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3BF-CFFD-48B7-AE99-747F1699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D42-4FD4-4F14-8A70-01B45170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FB7-A4A3-467E-A2AA-2268828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308-2DD3-41DF-A31D-2231F9C0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2C6-E4DB-49C5-9A4B-BC90E005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04A17CC3-5BFD-4AC7-BD52-A6B3D2D15CB6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657440" y="3164040"/>
            <a:ext cx="63864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压负荷开关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     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</a:t>
            </a: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</a:t>
            </a: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：梁卫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5"/>
          <p:cNvSpPr/>
          <p:nvPr/>
        </p:nvSpPr>
        <p:spPr>
          <a:xfrm>
            <a:off x="3936240" y="95400"/>
            <a:ext cx="19670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负荷开关的运行与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内容占位符 2"/>
          <p:cNvSpPr/>
          <p:nvPr/>
        </p:nvSpPr>
        <p:spPr>
          <a:xfrm>
            <a:off x="-166680" y="-779400"/>
            <a:ext cx="385776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20720" y="662040"/>
            <a:ext cx="8272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正常运行巡视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观察有关的仪表指示应正常，以确定负荷开关的工作条件正常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运行中的负荷开关应无异常声响、异常气味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连接点应无腐蚀、无过热变色现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灭弧装置、喷嘴无异常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绝缘子完好，无闪络放电痕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传动机构、操动机构的零部件完整、连接件紧固，操动机构的分合指示应与负荷开关的实际工作位置一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5"/>
          <p:cNvSpPr/>
          <p:nvPr/>
        </p:nvSpPr>
        <p:spPr>
          <a:xfrm>
            <a:off x="3936240" y="95400"/>
            <a:ext cx="19670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负荷开关的运行与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-166680" y="-779400"/>
            <a:ext cx="385776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774720" y="588960"/>
            <a:ext cx="78073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日常维护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投入运行前，应将绝缘子擦拭干净，并检查有无裂纹和损坏，绝缘是否良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检查并拧紧紧固件，以防在多次操作后松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检查操动机构有无卡住、呆滞现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合闸时三相触点是否同期接触，其中心有无偏移现象；分闸时，刀开关张开角度应大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58°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断开时应有明显可见的断开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定期检查灭弧室的完好情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61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Other_2"/>
          <p:cNvSpPr/>
          <p:nvPr/>
        </p:nvSpPr>
        <p:spPr>
          <a:xfrm>
            <a:off x="2604960" y="2933640"/>
            <a:ext cx="1839960" cy="10332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SubTitle_2"/>
          <p:cNvSpPr/>
          <p:nvPr/>
        </p:nvSpPr>
        <p:spPr>
          <a:xfrm>
            <a:off x="4419720" y="2120760"/>
            <a:ext cx="3560760" cy="5130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负荷开关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1"/>
          <p:cNvSpPr/>
          <p:nvPr/>
        </p:nvSpPr>
        <p:spPr>
          <a:xfrm flipV="1">
            <a:off x="2505240" y="1740960"/>
            <a:ext cx="1927080" cy="8002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Other_2"/>
          <p:cNvSpPr/>
          <p:nvPr/>
        </p:nvSpPr>
        <p:spPr>
          <a:xfrm flipV="1">
            <a:off x="2604960" y="2441520"/>
            <a:ext cx="1814760" cy="33984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1"/>
          <p:cNvSpPr/>
          <p:nvPr/>
        </p:nvSpPr>
        <p:spPr>
          <a:xfrm>
            <a:off x="4419720" y="144144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负荷开关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766800" y="1819440"/>
            <a:ext cx="1954080" cy="195552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itle_1"/>
          <p:cNvSpPr/>
          <p:nvPr/>
        </p:nvSpPr>
        <p:spPr>
          <a:xfrm>
            <a:off x="984240" y="2038320"/>
            <a:ext cx="152100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4"/>
          <p:cNvSpPr/>
          <p:nvPr/>
        </p:nvSpPr>
        <p:spPr>
          <a:xfrm>
            <a:off x="3859560" y="65160"/>
            <a:ext cx="233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高压负荷开关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Other_2"/>
          <p:cNvSpPr/>
          <p:nvPr/>
        </p:nvSpPr>
        <p:spPr>
          <a:xfrm>
            <a:off x="2604960" y="3205080"/>
            <a:ext cx="1814760" cy="51444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SubTitle_3"/>
          <p:cNvSpPr/>
          <p:nvPr/>
        </p:nvSpPr>
        <p:spPr>
          <a:xfrm>
            <a:off x="4459320" y="278136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负荷开关的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SubTitle_3"/>
          <p:cNvSpPr/>
          <p:nvPr/>
        </p:nvSpPr>
        <p:spPr>
          <a:xfrm>
            <a:off x="4454640" y="3505320"/>
            <a:ext cx="3560760" cy="5094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负荷开关的运行与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负荷开关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944640" y="662040"/>
            <a:ext cx="750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高压负荷开关是一种结构比较简单，具有一定开断和关合能力的开关电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特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有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灭弧装置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和一定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分合闸速度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分闸状态有明显可见的断口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能开断正常负荷电流和过负荷电流，不能开断短路电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性能介于隔离开关与断路器之间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结构简单，制造容易，价格便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五角星 3"/>
          <p:cNvSpPr/>
          <p:nvPr/>
        </p:nvSpPr>
        <p:spPr>
          <a:xfrm>
            <a:off x="1050840" y="1224000"/>
            <a:ext cx="176400" cy="228600"/>
          </a:xfrm>
          <a:custGeom>
            <a:avLst/>
            <a:gdLst/>
            <a:ahLst/>
            <a:rect l="l" t="t" r="r" b="b"/>
            <a:pathLst>
              <a:path w="175109" h="228600">
                <a:moveTo>
                  <a:pt x="0" y="87317"/>
                </a:moveTo>
                <a:lnTo>
                  <a:pt x="66886" y="87318"/>
                </a:lnTo>
                <a:lnTo>
                  <a:pt x="87555" y="0"/>
                </a:lnTo>
                <a:lnTo>
                  <a:pt x="108223" y="87318"/>
                </a:lnTo>
                <a:lnTo>
                  <a:pt x="175109" y="87317"/>
                </a:lnTo>
                <a:lnTo>
                  <a:pt x="120997" y="141282"/>
                </a:lnTo>
                <a:lnTo>
                  <a:pt x="141666" y="228599"/>
                </a:lnTo>
                <a:lnTo>
                  <a:pt x="87555" y="174634"/>
                </a:lnTo>
                <a:lnTo>
                  <a:pt x="33443" y="228599"/>
                </a:lnTo>
                <a:lnTo>
                  <a:pt x="54112" y="141282"/>
                </a:lnTo>
                <a:lnTo>
                  <a:pt x="0" y="87317"/>
                </a:lnTo>
                <a:close/>
              </a:path>
            </a:pathLst>
          </a:cu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4" descr=""/>
          <p:cNvPicPr/>
          <p:nvPr/>
        </p:nvPicPr>
        <p:blipFill>
          <a:blip r:embed="rId2"/>
          <a:stretch/>
        </p:blipFill>
        <p:spPr>
          <a:xfrm>
            <a:off x="6464160" y="2382840"/>
            <a:ext cx="2113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负荷开关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944640" y="662040"/>
            <a:ext cx="750240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作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1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）隔离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Segoe UI"/>
              </a:rPr>
              <a:t>负荷开关在断开位置时，有明显的断开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2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）开断和关合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Segoe UI"/>
              </a:rPr>
              <a:t>负荷开关具有简易的灭弧装置，因而可分、合负荷开关本身额定电流内的负荷电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3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）替代作用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Segoe UI"/>
              </a:rPr>
              <a:t>配有高压熔断器的负荷开关，可作为断流能力有限的断路器使用。负荷开关本身用于分、合正常情况下的负荷电流，高压熔断器则用来切断短路电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负荷开关的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内容占位符 2"/>
          <p:cNvSpPr/>
          <p:nvPr/>
        </p:nvSpPr>
        <p:spPr>
          <a:xfrm>
            <a:off x="714240" y="662040"/>
            <a:ext cx="822960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marL="171360" indent="-171360"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按灭弧形式和灭弧介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真空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产气、压气式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按操作方式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手动、电动型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以户内型为主，集中在配电网中；以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产气、压气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负荷开关居多；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真空、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负荷开关发展迅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7"/>
          <p:cNvGrpSpPr/>
          <p:nvPr/>
        </p:nvGrpSpPr>
        <p:grpSpPr>
          <a:xfrm>
            <a:off x="5168880" y="2660760"/>
            <a:ext cx="1585800" cy="2149920"/>
            <a:chOff x="5168880" y="2660760"/>
            <a:chExt cx="1585800" cy="2149920"/>
          </a:xfrm>
        </p:grpSpPr>
        <p:pic>
          <p:nvPicPr>
            <p:cNvPr id="112" name="图片 4" descr=""/>
            <p:cNvPicPr/>
            <p:nvPr/>
          </p:nvPicPr>
          <p:blipFill>
            <a:blip r:embed="rId2"/>
            <a:stretch/>
          </p:blipFill>
          <p:spPr>
            <a:xfrm>
              <a:off x="5168880" y="2660760"/>
              <a:ext cx="1585800" cy="18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8"/>
            <p:cNvSpPr/>
            <p:nvPr/>
          </p:nvSpPr>
          <p:spPr>
            <a:xfrm>
              <a:off x="5444640" y="4442400"/>
              <a:ext cx="12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产气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0"/>
          <p:cNvGrpSpPr/>
          <p:nvPr/>
        </p:nvGrpSpPr>
        <p:grpSpPr>
          <a:xfrm>
            <a:off x="7039080" y="2603520"/>
            <a:ext cx="1595160" cy="2193120"/>
            <a:chOff x="7039080" y="2603520"/>
            <a:chExt cx="1595160" cy="2193120"/>
          </a:xfrm>
        </p:grpSpPr>
        <p:pic>
          <p:nvPicPr>
            <p:cNvPr id="115" name="图片 5" descr=""/>
            <p:cNvPicPr/>
            <p:nvPr/>
          </p:nvPicPr>
          <p:blipFill>
            <a:blip r:embed="rId3"/>
            <a:stretch/>
          </p:blipFill>
          <p:spPr>
            <a:xfrm>
              <a:off x="7039080" y="2603520"/>
              <a:ext cx="159516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9"/>
            <p:cNvSpPr/>
            <p:nvPr/>
          </p:nvSpPr>
          <p:spPr>
            <a:xfrm>
              <a:off x="7277760" y="442836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压气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"/>
          <p:cNvGrpSpPr/>
          <p:nvPr/>
        </p:nvGrpSpPr>
        <p:grpSpPr>
          <a:xfrm>
            <a:off x="824040" y="2516040"/>
            <a:ext cx="1865160" cy="2329560"/>
            <a:chOff x="824040" y="2516040"/>
            <a:chExt cx="1865160" cy="2329560"/>
          </a:xfrm>
        </p:grpSpPr>
        <p:pic>
          <p:nvPicPr>
            <p:cNvPr id="118" name="图片 6" descr=""/>
            <p:cNvPicPr/>
            <p:nvPr/>
          </p:nvPicPr>
          <p:blipFill>
            <a:blip r:embed="rId4"/>
            <a:stretch/>
          </p:blipFill>
          <p:spPr>
            <a:xfrm>
              <a:off x="824040" y="2516040"/>
              <a:ext cx="1865160" cy="20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Box 7"/>
            <p:cNvSpPr/>
            <p:nvPr/>
          </p:nvSpPr>
          <p:spPr>
            <a:xfrm>
              <a:off x="1120320" y="447732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真空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7"/>
          <p:cNvSpPr/>
          <p:nvPr/>
        </p:nvSpPr>
        <p:spPr>
          <a:xfrm>
            <a:off x="3102120" y="4443480"/>
            <a:ext cx="127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4" descr=""/>
          <p:cNvPicPr/>
          <p:nvPr/>
        </p:nvPicPr>
        <p:blipFill>
          <a:blip r:embed="rId5"/>
          <a:stretch/>
        </p:blipFill>
        <p:spPr>
          <a:xfrm>
            <a:off x="2773440" y="2516040"/>
            <a:ext cx="2179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负荷开关的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内容占位符 2"/>
          <p:cNvSpPr/>
          <p:nvPr/>
        </p:nvSpPr>
        <p:spPr>
          <a:xfrm>
            <a:off x="714240" y="662040"/>
            <a:ext cx="81694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 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真空负荷开关的开关触头被封入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真空灭弧室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，开断电流大，适宜于频繁操作，其灭弧室较真空断路器的灭弧室简单，管径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1f6dd1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"/>
          <p:cNvGrpSpPr/>
          <p:nvPr/>
        </p:nvGrpSpPr>
        <p:grpSpPr>
          <a:xfrm>
            <a:off x="2281320" y="1469880"/>
            <a:ext cx="4602240" cy="2936160"/>
            <a:chOff x="2281320" y="1469880"/>
            <a:chExt cx="4602240" cy="2936160"/>
          </a:xfrm>
        </p:grpSpPr>
        <p:pic>
          <p:nvPicPr>
            <p:cNvPr id="127" name="图片 6" descr=""/>
            <p:cNvPicPr/>
            <p:nvPr/>
          </p:nvPicPr>
          <p:blipFill>
            <a:blip r:embed="rId2"/>
            <a:stretch/>
          </p:blipFill>
          <p:spPr>
            <a:xfrm>
              <a:off x="2281320" y="1469880"/>
              <a:ext cx="4602240" cy="26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7"/>
            <p:cNvSpPr/>
            <p:nvPr/>
          </p:nvSpPr>
          <p:spPr>
            <a:xfrm>
              <a:off x="3012840" y="4037760"/>
              <a:ext cx="31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真空负荷开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负荷开关的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内容占位符 2"/>
          <p:cNvSpPr/>
          <p:nvPr/>
        </p:nvSpPr>
        <p:spPr>
          <a:xfrm>
            <a:off x="714240" y="662040"/>
            <a:ext cx="81694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      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1f6dd1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负荷开关以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微软雅黑"/>
              </a:rPr>
              <a:t>6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气体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作为绝缘和灭弧介质，寿命长、开断能力强，容易实现三工作位（接通、断开和接地），小电流开断，抗严酷环境条件能力强，适宜城乡中压配电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1f6dd1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3" descr=""/>
          <p:cNvPicPr/>
          <p:nvPr/>
        </p:nvPicPr>
        <p:blipFill>
          <a:blip r:embed="rId2"/>
          <a:stretch/>
        </p:blipFill>
        <p:spPr>
          <a:xfrm>
            <a:off x="2763720" y="1898640"/>
            <a:ext cx="4662720" cy="29145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4065480" y="4290840"/>
            <a:ext cx="17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F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负荷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负荷开关的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内容占位符 2"/>
          <p:cNvSpPr/>
          <p:nvPr/>
        </p:nvSpPr>
        <p:spPr>
          <a:xfrm>
            <a:off x="714240" y="662040"/>
            <a:ext cx="82296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 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产气式负荷开关是利用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触头分离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，产生电弧，在电弧的作用下，使绝缘产气材料产生大量的灭弧气体喷向电弧，使电弧熄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2620800" y="1728720"/>
            <a:ext cx="3488040" cy="2499480"/>
            <a:chOff x="2620800" y="1728720"/>
            <a:chExt cx="3488040" cy="2499480"/>
          </a:xfrm>
        </p:grpSpPr>
        <p:pic>
          <p:nvPicPr>
            <p:cNvPr id="140" name="图片 4" descr=""/>
            <p:cNvPicPr/>
            <p:nvPr/>
          </p:nvPicPr>
          <p:blipFill>
            <a:blip r:embed="rId2"/>
            <a:stretch/>
          </p:blipFill>
          <p:spPr>
            <a:xfrm>
              <a:off x="2620800" y="1728720"/>
              <a:ext cx="3488040" cy="22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8"/>
            <p:cNvSpPr/>
            <p:nvPr/>
          </p:nvSpPr>
          <p:spPr>
            <a:xfrm>
              <a:off x="3227760" y="3859920"/>
              <a:ext cx="266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产气式负荷开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负荷开关的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内容占位符 2"/>
          <p:cNvSpPr/>
          <p:nvPr/>
        </p:nvSpPr>
        <p:spPr>
          <a:xfrm>
            <a:off x="714240" y="662040"/>
            <a:ext cx="81694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 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压气式负荷开关是利用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空气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作为灭弧介质，是一种将空气经压缩后直接喷向电弧断口而熄灭电弧的开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1f6dd1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2982960" y="1687680"/>
            <a:ext cx="3649680" cy="2725920"/>
            <a:chOff x="2982960" y="1687680"/>
            <a:chExt cx="3649680" cy="2725920"/>
          </a:xfrm>
        </p:grpSpPr>
        <p:pic>
          <p:nvPicPr>
            <p:cNvPr id="147" name="图片 5" descr=""/>
            <p:cNvPicPr/>
            <p:nvPr/>
          </p:nvPicPr>
          <p:blipFill>
            <a:blip r:embed="rId2"/>
            <a:stretch/>
          </p:blipFill>
          <p:spPr>
            <a:xfrm>
              <a:off x="2982960" y="1687680"/>
              <a:ext cx="3649680" cy="24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9"/>
            <p:cNvSpPr/>
            <p:nvPr/>
          </p:nvSpPr>
          <p:spPr>
            <a:xfrm>
              <a:off x="3529080" y="4045320"/>
              <a:ext cx="25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压气式负荷开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17:15Z</dcterms:modified>
  <cp:revision>3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463</vt:lpwstr>
  </property>
</Properties>
</file>